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9.png" ContentType="image/png"/>
  <Override PartName="/ppt/media/image5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9.png" ContentType="image/png"/>
  <Override PartName="/ppt/media/image2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0197-435D-4CDE-8B9B-C05F36D2C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CEBD-6C18-4339-B020-E9F72F0C4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C76E-DC87-4065-B8ED-174B7F392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6BFB-7BDD-41D0-B51F-F17D9E0E3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60B8F-63B5-440B-AEB0-EE5ECC62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EB988-C772-475B-A93F-1FD16B53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D2812-2ABA-4F68-B7BF-332FA12B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20FBC-3FEA-4777-9AA6-79857B6E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89362-64EA-4EF6-8BF0-7DD2AEB0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3280" y="333000"/>
            <a:ext cx="731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4188D-4650-4CAD-BFC6-5AEA0170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FD720-BC55-4621-9D6C-0B60AC2B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9F6C-E2BC-4094-9D88-16C9199F5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441FC-D478-4329-AF00-3FF91535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D35CA-A1E9-4BF3-96B7-EEB6B190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57BA7-0538-4EF0-9D8D-DE73933E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1445A-1432-4C72-A1C1-E5196B7F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55B1C-F874-4986-B61A-EDEF250C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8BE0-E1F7-4C13-8FC7-80EF9CB60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412E-5E22-4E93-9923-8C40F5CFF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C1C0-1495-4B24-B637-1FBDFB950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3280" y="333000"/>
            <a:ext cx="731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C200-F625-4324-B9E7-3CE428242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9CCA-E3CD-4AF2-85AA-4A33B504D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2B5B-8E14-4E95-BFE8-4C3DC3B61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5C99-D00F-4424-B3E8-E629F0A0C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9280" y="6356520"/>
            <a:ext cx="403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5E99-ACE8-4797-96F5-206E8FDDA6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CEB-82D7-4D46-9DFA-7946D8CBC7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1.xml"/><Relationship Id="rId6" Type="http://schemas.openxmlformats.org/officeDocument/2006/relationships/slide" Target="slide43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umaboa.com.br/criptologia/historia/geremia.php" TargetMode="External"/><Relationship Id="rId2" Type="http://schemas.openxmlformats.org/officeDocument/2006/relationships/hyperlink" Target="http://www.numaboa.com.br/criptologia/historia/geremia.php" TargetMode="External"/><Relationship Id="rId3" Type="http://schemas.openxmlformats.org/officeDocument/2006/relationships/hyperlink" Target="http://www.numaboa.com.br/criptologia/historia/geremia.ph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5136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3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94280"/>
            <a:ext cx="792360" cy="763560"/>
            <a:chOff x="5506920" y="589428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9428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4620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5736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4528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11064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3640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3640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3640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3640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7920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7524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7136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7712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7604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2968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448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5668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6712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7468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8332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8836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9088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9124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9124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8728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8512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7936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7108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6424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5416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4552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3508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24468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493560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79218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487 a.C. -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Bastão de Licur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 remetente escreve a mensagem ao longo do bastão e depois desenrola a tira, a qual então se converte numa sequência de letras sem sentido. O mensageiro usa a tira como cinto, com as letras voltadas para dentro. O destinatário, ao receber o "cinto", enrola-o no seu bastão, cujo diâmetro é igual ao do bastão do remetente. Desta forma, pode ler a mensagem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92360" y="4437000"/>
            <a:ext cx="640872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AC17-09C2-40FA-B322-6115B61602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96728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± 240 a.C - Crivo de Erastóten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-1940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m dos meios mais eficientes de achar todos os números primos pequenos, por exemplo os menores que 10.000.000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-1940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sta fazer uma lista com todos os inteiros maiores que um e menores ou igual a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e riscar os múltiplos de todos os primos menores ou igual à raiz quadrada de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n½).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Os números que não estiverem riscados são os números primos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-1940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xemplo: D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terminar os primos menores ou igual a 2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6912000" y="1836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12000" y="2906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12000" y="40561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12000" y="52084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10160" y="2341440"/>
            <a:ext cx="3240000" cy="490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581800" y="3411360"/>
            <a:ext cx="3240000" cy="501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581800" y="4689360"/>
            <a:ext cx="3240000" cy="51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581800" y="5711760"/>
            <a:ext cx="316692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601F-2C51-44D6-9E65-B47645F2C3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7993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± 150 a.C -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Código de Políb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da letra é representada pela combinação de dois números, os quais se referem à posição ocupada pela letra. Desta forma, A é substituído por 11, B por 12...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mensagem pode ser transmitida com dois grupos de 5 tochas. Por exemplo, a letra E é transformada em 1 e 5  e pode ser transmitida com 1 tocha à direita e 5 à esquerd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 sistema de telecomunicação - um telégrafo ótic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419640" y="4221000"/>
          <a:ext cx="288108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221000"/>
                    <a:ext cx="2881080" cy="230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C5B2-6CB7-43D5-AE12-1AE997163D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753920"/>
            <a:ext cx="828036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50 a.C. - Código de Cés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da letra da mensagem original é substituída pela letra que a seguia em três posições no alfabeto: a letra A substituída por D, a B por E, e assim até a última letra, cifrada com a primeir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Único da antiguidade usado até hoje, apesar de representar um retrocesso em relação à criptografia existente na époc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nominação atual para qualquer cifra baseada na substituição cíclica do alfabeto: Código de Cés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4508640"/>
            <a:ext cx="2016000" cy="19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971640" y="4149720"/>
          <a:ext cx="5832360" cy="5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4149720"/>
                    <a:ext cx="5832360" cy="522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48A7-D0A5-4B25-826E-86A4CF5069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777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lvl="1" marL="252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ptografia por Máqui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-96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tabela predeterminada era usada em conjunto com uma máquina, em que o operador desta, usando a tabela e manipulando a máquina, podia enviar uma mensagem criptografad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-96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s de máquinas de criptograf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O Cilindro de Jefferson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O Código Mo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O Código Bra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O Código ASC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Máquina Enig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Máquina Coloss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8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7BC6-BFC9-46B4-BE00-0A379EA446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1835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 cilindro de Jefferson (Thomas Jefferson, 1743-1826)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 sua forma original, é composto por 26 discos de madeira que giram livremente ao redor de um eixo central de metal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vinte e seis letras do alfabeto são inscritas aleatoriamente na superfície mais externa de cada disco de modo que, cada um deles, possua uma sequência diferente de letra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irando-se os discos pode-se obter as mensage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924280"/>
            <a:ext cx="345600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9296-11A9-4D1E-8551-A72808874C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muel Mor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791-187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desenvolve o código que recebeu o seu nom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 verdade não é um código, mas sim um alfabeto cifrado em sons curtos e long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se também foi o inventor do telégraf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3541680" cy="227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7255-2EF6-4E67-AF74-9BB5BD92FD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uis Brail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809-185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ódigo Brail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siste de 63 caracteres, cada um deles constituído por 1 a 6 pontos dispostos numa matriz ou célula de seis posiçõ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 Sistema Braille é universalmente aceito e utilizado até os dias de hoj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148360" y="2637000"/>
          <a:ext cx="33112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637000"/>
                    <a:ext cx="3311280" cy="2638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5230-3626-4501-95CB-7B2BE269D7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32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ódigo ASC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ottfried Wilhelm v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ibniz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1646-1716) inventou o cálculo diferencial e integral, a máquina de calcular e descreveu minuciosamente 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stema binár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a máquina de calcular usava a escala binária. Esta escala, obviamente mais elaborada, é utilizada até hoje e é conhecida como códig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CII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merican Standard Code for Information Interchange)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- permitiu que máquinas de diferentes fabricantes trocassem dados entre si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2852640"/>
            <a:ext cx="3967200" cy="206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91E9-0414-4EE5-B270-5A17641458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90656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áquina Enigma (19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áquina cifrante baseada em rotor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</a:rPr>
              <a:t>Foi um dos segredos mais bem guardados na Segunda Grande Guerra, usada pelos Alemães para proteger as comunicações entre o comando e as embarcações navais.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1940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(Alan Turing e sua equipe) – construção do primeiro computador operacional para o serviço de inteligência britânico -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Heath Robins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Heath Robinson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- utilizava tecnologia de relés e foi construído especificamente para decifrar mensagens alemãs (durante a Segunda Guerra Mundial) cifradas pela máquina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Enigma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2349360" cy="31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093F-CE62-4C8B-90F6-44AF0FD60D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riptografia - Fundamen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erminolog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Histór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steganografia - Fundamen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Breve Histór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ormas de Utiliz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riptografia – Segurança da Inform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2EBB-AF51-4C2B-818C-2DD03F758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30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1943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ingleses (Alan Turing) desenvolvem uma nova máquina para substituir o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Heath Robinson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loss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48280" y="3141720"/>
            <a:ext cx="4240080" cy="29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FB4A-9C69-450E-8C88-D81A6121C4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74560" y="1699920"/>
            <a:ext cx="8569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ptografia em rede (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ensagem é criptografada usando-se algoritm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o advento da internet e sua popularização, a criptografia em rede tem sido responsável pelo surgimento/fortalecimento do comércio eletrôn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DE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 Encryption Stand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da IB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 O RSA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ald Rivest, Adi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mir e Leonar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lem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 O PGP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etty Good Privac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de Phil Zimmer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ras codificações (nas telecomunicações: celulares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satélites, etc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9882-7BFE-48F5-B37F-14329356EF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9182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lvl="1" marL="540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visões da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-25164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a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-25164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C55D-2B54-4369-B2AF-4E9C98EA52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8748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 fra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5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316080"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neira banal de tentar ocultar informações de pessoas leigas no assun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5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316080"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jogo criptograma - a pessoa deve chegar a identificar uma frase analisando certos símbol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5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3827520"/>
          <a:ext cx="44640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827520"/>
                    <a:ext cx="4464000" cy="2697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0C53B-48F8-4E68-9D61-6C1170A438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08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lvl="1" marL="437040" indent="-20376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 For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04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660240" indent="-19404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 alta complexidade que visa manter as informações ocultas mesmo sob intensa verificação de super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0240" indent="-19404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feita de duas form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864720" indent="-16524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s públic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ou 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s privad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024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0240" indent="-19404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PGP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retty Good Privacy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024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5589720"/>
            <a:ext cx="799308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Geralmente, a maneira mais fácil de determinar se um algoritmo é forte ou fraco consiste em publicar sua descrição, fazendo com que várias pessoas possam discutir sobre a eficiência ou não dos métodos utiliz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6D88-452C-44B5-BCB5-E54F7D8CFE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209080" cy="14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lvl="1" marL="540000" indent="-25164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have pública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- a forma de criptografia é passada publicamente, para diversas pessoas, porém a maneira de descriptografá-las fica apenas com a pessoa/empresa que criou a chav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-25164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have privada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- o criador é o único que sabe como codificar e decodificar, somente poderão ler ou esconder a informação aqueles a quem ele passar as instruções para fazê-l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FC58-DFF2-4B68-A381-33ED1DCC0B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5075280" y="6524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00720" y="4654440"/>
            <a:ext cx="1871640" cy="503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4654440"/>
            <a:ext cx="1944720" cy="503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3790800"/>
            <a:ext cx="2590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3790800"/>
            <a:ext cx="12240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60360" y="3790800"/>
            <a:ext cx="151128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2925720"/>
            <a:ext cx="223200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2925720"/>
            <a:ext cx="215892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2360" y="2133720"/>
            <a:ext cx="2159280" cy="50472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263844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2781360"/>
            <a:ext cx="388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27828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278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88000" y="364824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364824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64824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45115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45115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6464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451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34304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67280" y="42958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278136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364644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515772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7280" y="54468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5448240"/>
            <a:ext cx="0" cy="6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5446800"/>
            <a:ext cx="0" cy="6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2206800"/>
            <a:ext cx="7488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PT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PTOANÁ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CÓDIGO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CIFRA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ESTEGAN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Transposiçã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Substitu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onoalfabética       Polialfabétic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1332000" y="38624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3419640" y="38624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2268360" y="4726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5" action="ppaction://hlinksldjump"/>
          </p:cNvPr>
          <p:cNvSpPr/>
          <p:nvPr/>
        </p:nvSpPr>
        <p:spPr>
          <a:xfrm>
            <a:off x="4643280" y="4726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6" action="ppaction://hlinksldjump"/>
          </p:cNvPr>
          <p:cNvSpPr/>
          <p:nvPr/>
        </p:nvSpPr>
        <p:spPr>
          <a:xfrm>
            <a:off x="5796000" y="38624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4360" y="6093000"/>
            <a:ext cx="806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ifra considerada inviolável: Cifra (ou chave) de uso único (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Verdana"/>
              </a:rPr>
              <a:t>one-time-pad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7" action="ppaction://hlinksldjump"/>
          </p:cNvPr>
          <p:cNvSpPr/>
          <p:nvPr/>
        </p:nvSpPr>
        <p:spPr>
          <a:xfrm>
            <a:off x="7020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8565-293B-4FE5-815F-C5B0EB2080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39280" y="1755720"/>
            <a:ext cx="8209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lvl="1" marL="44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mas de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45680" indent="-20772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r códig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procura esconder o conteúdo da mensagem através de códigos pré-definidos entre as partes envolvidas na troca de mensagens (substitui uma palavra por outra palavra ou símbol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45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5680" indent="-20772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ódigo utilizado pelas forças armadas dos EUA na 2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uerra Mundial. Utilizado pelos índios navajo que se comunicavam uns com os outros usando palavras navajo específicas para termos militares (exemplo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y-dagahi-nail-tsaid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assassino de cágado – indicar arma antitanqu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4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6165720"/>
            <a:ext cx="7561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arte da História do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índios navajo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oderá ser vista no filme </a:t>
            </a:r>
            <a:r>
              <a:rPr b="1" i="1" lang="pt-BR" sz="1400" spc="-1" strike="noStrike">
                <a:solidFill>
                  <a:srgbClr val="000000"/>
                </a:solidFill>
                <a:latin typeface="Verdana"/>
              </a:rPr>
              <a:t>Códigos de Guerra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75AA2-7305-40A0-A535-B1405CBDDEC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11280" y="1684440"/>
            <a:ext cx="8208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lvl="1" marL="36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mas de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-1677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r cifr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o conteúdo da mensagem é cifrado através da mistura e/ou substituição das letras da mensagem original. Transformação de caractere por caractere (ou de bit por bit). Não considera a estrutura lingüística da mensagem. A  mensagem é decifrada fazendo-se o processo inverso ao ciframen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-1677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ifras Hebráic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-1677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i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43960" indent="-1598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 Transposiçã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43960" indent="-1598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 Substituiçã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3602-EE72-4B14-944E-B7C849C4D8F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4920" y="2060640"/>
            <a:ext cx="8209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ifras de Transposição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: método pelo qual o conteúdo da mensagem é o mesmo, porém com as letras postas em ordem diferente (permutadas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: pode-se cifrar a palav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carro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e escrevê-la como ORARC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A50C-DBF1-42C5-8339-CA4E9193BA6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Conjunto de técnicas que permitem tornar “incompreensível” uma mensagem originalmente escrita com clareza, de forma a permitir que apenas o destinatário a decifre e a compreend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riptoanáli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do grego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kryptos 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álys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composiçã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- ciência que estuda a decomposição do que está oculto ou a “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br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do sistema criptográfic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riptologi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Criptografia + Criptoanáli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5D19-7CAF-445B-BA9C-2B9248B768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16000" y="1628640"/>
            <a:ext cx="7345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Uma cifra de transposi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297920" cy="3144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995640" y="2925720"/>
            <a:ext cx="1657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exto cla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4100400"/>
            <a:ext cx="1942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exto cif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2205000"/>
            <a:ext cx="2736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2421000"/>
            <a:ext cx="165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h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64000" y="2446200"/>
            <a:ext cx="503280" cy="46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36000" y="1916280"/>
            <a:ext cx="1728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Lido em colunas, a partir da coluna cuja letra da chave é a mais baixa (mais próxima do início do alfabe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516720" y="3860640"/>
            <a:ext cx="719280" cy="578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5734080"/>
            <a:ext cx="748836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ifra de blocos de 64 caracte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Saída: 4, 12, 20, 28, 36, 44, 52, 60, 5, 13, ..., 6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B2DB-3E9A-43AD-A57A-FD537B7B21B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09080" cy="14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lvl="1" marL="462600" indent="-21564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ifras de Substituição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: troca-se cada letra ou grupo de letras da mensagem de acordo com uma tabela de substituiçã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26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2600" indent="-21564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Tipo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 de substituição simples, monoalfabética ou Cifra de Cés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 de substituição polialfabé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 de substituição por desloc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587160" y="33300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2DDF-CEB0-492B-867C-A12F9525DA6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42560" y="1827360"/>
            <a:ext cx="8893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lvl="1" marL="419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ifra de substituição simples, monoalfabét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-19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o cifrad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substitui-se cada caractere do texto claro por outro, de acordo com uma tabela pré-estabelecid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-19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tém a freqüência relativa dos caracte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-19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ptografia contemporânea (uso de computadores) - substitui-se caracteres por blocos de b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-19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vamente segura em textos muito curtos. Uma simples criptanálise estatística, baseada na característica estatística da língua, é suficiente para decifrar o tex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59E0-E2C5-4B8C-9D04-B5B686B1C76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07640" y="1844640"/>
            <a:ext cx="8496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lvl="1" marL="419760" indent="-195840" algn="just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ifra de substituição simples, monoalfabética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-18648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nogrâm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onográfica) - cada letra da mensagem original é substituída por apenas uma outra letra, número ou símbol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-18648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comprimento da mensagem cifrada é o mesmo da mensagem origi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-1864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Utilizando 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ódigo de César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ta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é criptogrado como DWDTX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2209-47FB-4E4F-9C9B-53D6B60DBFA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34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da símbolo (letra) é substituído por ou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or função matemá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or tabe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siderando 26 letra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tem-se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26!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possibilidades (cerca de 4x10</a:t>
            </a:r>
            <a:r>
              <a:rPr b="0" lang="pt-BR" sz="2100" spc="-1" strike="noStrike" baseline="30000">
                <a:solidFill>
                  <a:srgbClr val="000000"/>
                </a:solidFill>
                <a:latin typeface="Verdana"/>
              </a:rPr>
              <a:t>26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m 1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por tentativa, são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necessários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pt-BR" sz="21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nos para experimentar todas as chav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11BE-51EA-4575-8E28-3983AEC531E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ifra de desloca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alização da cifra de Cés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da c = (m + k) mod 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 : texto cifr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: texto cla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k: chave (deslocament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: quantidade de símbolos ou letr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ifra de Cés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 = (m + 3) mod 2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teste de uma cifra de ces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whvwh gh xpd fliud gh fhvd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CCAE-15A1-4A20-AE7C-A0FF0560BAB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(Exempl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uito poucas tentativas (só 2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Courier New"/>
              </a:rPr>
              <a:t>alzal kl bth jpmyh kl klzsvjhtluz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Courier New"/>
              </a:rPr>
              <a:t>zkyzk jk asg iolxg jk jkyruigsktz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Courier New"/>
              </a:rPr>
              <a:t>yjxyj ij zrf hnkwf ij ijxqthfrjsy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xiwxi hi yqe gmjve hi hiwpsgeqirx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99"/>
                </a:solidFill>
                <a:latin typeface="Courier New"/>
              </a:rPr>
              <a:t>whvwh gh xpd fliud gh ghvorfdphqw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00"/>
                </a:solidFill>
                <a:latin typeface="Courier New"/>
              </a:rPr>
              <a:t>vguvg fg woc ekhtc fg fgunqecogpv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Courier New"/>
              </a:rPr>
              <a:t>uftuf ef vnb djgsb ef eftmpdbnf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teste de uma cifra de desloca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FD40-7C1A-4ED7-8D1E-EC9F8EBEC2D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71280" y="1611360"/>
            <a:ext cx="8964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lvl="1" marL="385560" indent="-17964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 de substituição simples, monoalfabética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556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ligrâm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poligráfica) = vários caracte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titui um ou mais caracteres da mensagem original por uma ou mais letras, números ou símbol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556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imento da mensagem cifrada nem sempre é o mesmo da mensagem origina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968760" indent="0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tituição homofônica ("mesmo som”) - sequências diferentes de letras pronunciadas de forma semelha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968760" indent="0">
              <a:spcBef>
                <a:spcPts val="7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duz um único símbolo do texto claro para um de muitos símbolos cifrados, todos com o mesmo signific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 algn="just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cifra de Babou (substituir uma letra por um de vários símbolos)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b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de corresponder a MÃE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rresponder a JK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F07A-F215-432A-8A99-B367A1739A7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5694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lvl="1" marL="462600" indent="-21564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 de substituição simples, monoalfabética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26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626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stemas tomogrâm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cada letra é representada por um grupo de duas ou mais letras ou númer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s letras ou números são obtidos através de uma cifragem por substituição ou por transposição separ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 Código de Políb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6DF4-59A7-4901-A2B6-85B0752D1DD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8425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lvl="1" marL="411120" indent="-19188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ifra de substituição polialfabética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111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-1825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stituição polialfabét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utiliza múltiplos alfabetos para a substituição de uma mesma mensag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0" algn="just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-1825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alfabetos não precisam necessariamente ser de origens diferentes. O simples fato de alterar a ordem na sequência das letras já caracteriza um "novo" alfabe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0" algn="just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-1825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iculta a interpretação do texto cifrado pela aplicação da análise de frequênci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0" algn="just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-1825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O Disco de Alber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B668-4F03-4504-A251-2A2F34F88C4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560" y="1989000"/>
            <a:ext cx="7921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ré-requisitos da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oria de Núm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temática Discre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oria da Inform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oria de Probabilid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plexidade Computa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cessamento de Sin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52CA-3F61-455A-A711-7D9E51F4A5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640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9996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ifra de substituição polialfabética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Disco de Alber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456000" cy="330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8820000" y="6551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5351-3CCB-4B1B-8799-C8EF3D8BF59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064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lvl="1" marL="325440" indent="-15192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ifra (ou chave) de uso único (</a:t>
            </a:r>
            <a:r>
              <a:rPr b="1" i="1" lang="pt-BR" sz="2100" spc="-1" strike="noStrike">
                <a:solidFill>
                  <a:srgbClr val="000000"/>
                </a:solidFill>
                <a:latin typeface="Verdana"/>
              </a:rPr>
              <a:t>one-time-pad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325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492120" indent="-1447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ifra inviolá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92120" indent="0" algn="just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492120" indent="-1447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écn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644040" indent="-123120" algn="just">
              <a:spcBef>
                <a:spcPts val="451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olher como chave um string de bits aleató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644040" indent="-123120" algn="just">
              <a:spcBef>
                <a:spcPts val="451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verter o texto simples em um string de bits (utilizando´o Código ASCII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644040" indent="-123120" algn="just">
              <a:spcBef>
                <a:spcPts val="451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lcular o OR exclusivo (XOR) dos dois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49212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492120" indent="-1447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mune a ataqu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Teoria da Informação – não existe nenhuma informação na mensagem, todos os textos possíveis com o tamanho dado são igualmente prováve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F4BE-1BBD-481D-A1D5-36C638A966E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186920" y="170028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so de uma chave única para criptografia e a possibilidade de conseguir texto simples que seja possível a partir do texto cifrado pela utilização de alguma outra ch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1280" y="3895560"/>
            <a:ext cx="8424360" cy="1576440"/>
            <a:chOff x="611280" y="3895560"/>
            <a:chExt cx="8424360" cy="157644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826920" y="3982680"/>
              <a:ext cx="82087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11280" y="3895560"/>
              <a:ext cx="1007640" cy="7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Verdana"/>
                </a:rPr>
                <a:t>Mensagem 1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Verdana"/>
                </a:rPr>
                <a:t>Chave 1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Verdana"/>
                </a:rPr>
                <a:t>Texto cifrado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280" y="4927320"/>
              <a:ext cx="115236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82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Verdana"/>
                </a:rPr>
                <a:t>Chave 2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Verdana"/>
                </a:rPr>
                <a:t>Texto simples 2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476360" y="302112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I love you”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vertida em ASCII de 7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186920" y="3452760"/>
            <a:ext cx="36036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79640" y="56134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Elvis lives”  ??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402920" y="5468400"/>
            <a:ext cx="36036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19280" y="3884760"/>
            <a:ext cx="73080" cy="504720"/>
          </a:xfrm>
          <a:custGeom>
            <a:avLst/>
            <a:gdLst>
              <a:gd name="textAreaLeft" fmla="*/ 46800 w 73080"/>
              <a:gd name="textAreaRight" fmla="*/ 73440 w 73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763280" y="3716280"/>
            <a:ext cx="360360" cy="239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3524400"/>
            <a:ext cx="48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peração 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114E-251E-4A81-A8AB-5C829D70DB0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6720" y="2884320"/>
            <a:ext cx="3024360" cy="2776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116000" y="1052640"/>
            <a:ext cx="3025800" cy="29955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187280" y="1969920"/>
            <a:ext cx="72723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Esteganograf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eganos = cober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grapho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graf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unicação secreta por ocultação de mensag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5641920"/>
            <a:ext cx="8277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impulso para descobrir segredos está profundamente enraizado na natureza humana. Mesmo a mente menos curiosa é estimulada pela perspectiva de compartilhar o conhecimento oculto aos outros” (John Chadwic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01080" y="1268280"/>
            <a:ext cx="7189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67280" y="1413000"/>
            <a:ext cx="4392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269B-BAAA-4335-B43C-9B0542722E4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756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steganografia x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esconde o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nteúd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a mensagem. Normalmente é conhecida a existência da mensag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steganografia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conde 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xistênc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a mensag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gurança adicional pode ser obtida combinando-s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eganografia + criptograf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D828-3D31-480A-A36B-DEF7D4699CE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</a:t>
            </a:r>
            <a:r>
              <a:rPr b="0" i="1" lang="pt-BR" sz="3600" spc="-1" strike="noStrike">
                <a:solidFill>
                  <a:srgbClr val="006666"/>
                </a:solidFill>
                <a:latin typeface="Impact"/>
              </a:rPr>
              <a:t>x</a:t>
            </a: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  Criptograf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7" name=""/>
          <p:cNvSpPr/>
          <p:nvPr/>
        </p:nvSpPr>
        <p:spPr>
          <a:xfrm>
            <a:off x="1601640" y="5479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pt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7840" y="5479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egan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106960" y="2508120"/>
          <a:ext cx="335268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6960" y="2508120"/>
                    <a:ext cx="335268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826920" y="2708280"/>
          <a:ext cx="4192920" cy="21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08280"/>
                    <a:ext cx="419292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487160" y="169704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steganografia x Crip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147A-F4E9-408B-8E6A-71C0D4066FD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nhando popularidade na indústr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rca D’águ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utores de imagens, músicas e softwares podem esconder uma marca registrada em seu produ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ressão Digit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sconder números de série ou um conjunto de características que diferenciam um objeto de seu simil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ualmente é utilizada na luta contra a pirataria, ataques e terrorismo cibernéti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B3CA-F1C0-4855-9E2E-C1E4057F72B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Formas de Obten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rcação de carac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inta Invisí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quenos furos no pap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derna Estegan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o de bits não significa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rea não us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502C-E210-44A6-A917-0D840B9090F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0840" y="190620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Escrever uma mensagem com suco de limão, esperar secar e aquecer o pape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390680" y="3354480"/>
          <a:ext cx="271476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3354480"/>
                    <a:ext cx="27147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971960" y="3354480"/>
          <a:ext cx="2705040" cy="20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1960" y="3354480"/>
                    <a:ext cx="270504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924200" y="55641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1800" y="55641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p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DF32-226D-400D-AC40-7F4B65FBE4B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7200" y="2020680"/>
            <a:ext cx="79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édula de R$10,00, vista contra a luz mostra a Bandeira do Bras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209088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635280" y="3645000"/>
            <a:ext cx="4267440" cy="196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0" name=""/>
          <p:cNvGraphicFramePr/>
          <p:nvPr/>
        </p:nvGraphicFramePr>
        <p:xfrm>
          <a:off x="776160" y="3697200"/>
          <a:ext cx="156852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6160" y="3697200"/>
                    <a:ext cx="1568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3665520" y="3925800"/>
            <a:ext cx="762120" cy="990720"/>
          </a:xfrm>
          <a:prstGeom prst="flowChartConnector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0800000">
            <a:off x="2529000" y="4154040"/>
            <a:ext cx="838080" cy="685800"/>
          </a:xfrm>
          <a:custGeom>
            <a:avLst/>
            <a:gdLst>
              <a:gd name="textAreaLeft" fmla="*/ 10476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C9A4-0B4C-4F68-8F3B-29EDCD5BF72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900000" y="1630440"/>
          <a:ext cx="7775640" cy="4967280"/>
        </p:xfrm>
        <a:graphic>
          <a:graphicData uri="http://schemas.openxmlformats.org/drawingml/2006/table">
            <a:tbl>
              <a:tblPr/>
              <a:tblGrid>
                <a:gridCol w="3598920"/>
                <a:gridCol w="41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1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1bf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o claro, simples (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in text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ou mensa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gem 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fração ou criptograf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o de “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baralhar”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a mensagem de forma a ocultar seu conteúdo de out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o cifrado (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pher text, Encrypted Text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ou criptog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gem cif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ifração ou descriptograf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o inverso de recuperação da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gem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a partir do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ptog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ve criptográ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âmetro de controle. Segredo por meio do qual a mensagem pode ser cifrada ou decif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87160" y="19800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Terminolog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B35E-A6DA-4C2E-B9ED-50318BB8F0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– Breve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9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écia antig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éculo 5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.C.) - Primeiro rela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tiaeus era prisioneiro do Rei Davi e enviou uma mensagem para seu cunhado tatuada em seu escra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eratus notificou Sparta que os Xerxes iriam invadiar a Grécia e escreveu uma mensagem numa mesa e a cobriu com c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Guerra Mundi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os alemães escondiam mensagens utilizando tinta invisível, tais como, suco de frutas, leite e ur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mensagens eram escondidas nas linhas em branco entre linhas de textos aparentemente inofensiv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0D90-D57D-491F-9631-EAD4DD2B5A1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- Formas de utiliz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92280" y="179856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ganografia pode ser utilizada em textos, imagens, áudio e mais recentemente em pacotes TCP/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844560" y="5013360"/>
            <a:ext cx="7391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imagem da esquerda possui (8.0Kb) e não contém dados escond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imagem da direita possui (13.0Kb) e contém 5Kb de textos escond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Monster Truck"/>
          <p:cNvPicPr/>
          <p:nvPr/>
        </p:nvPicPr>
        <p:blipFill>
          <a:blip r:embed="rId1"/>
          <a:stretch/>
        </p:blipFill>
        <p:spPr>
          <a:xfrm>
            <a:off x="1301760" y="26510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Monster Truck"/>
          <p:cNvPicPr/>
          <p:nvPr/>
        </p:nvPicPr>
        <p:blipFill>
          <a:blip r:embed="rId2"/>
          <a:stretch/>
        </p:blipFill>
        <p:spPr>
          <a:xfrm>
            <a:off x="4959360" y="26510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1D9D-A67B-484A-80B9-FE0A8A5F408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tex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écnic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locamento de linhas vertic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locamento de palavras em textos justifi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locamento do caracter de fim de linh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icionar pontuações como vírgulas e preposiçõ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rase original: 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ão, manteiga e le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rase alterada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ão, manteiga, e le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rase alterada: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Pão com manteiga e le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9E61-C59D-4D1C-89F2-E2D2BE0C652E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tex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08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 (mensagem escondida em um texto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 Senhor Evandro quer usar este salão temporariam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Relembre o fato ocorrido, isto poderia estragar relíquia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florais e imagens talhadas. Obrig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hor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ndro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r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r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ão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orariamente.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mbr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 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o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rido,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deria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gar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íquias,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rai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gen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hadas.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ig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sequestro foi perfe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2771640" y="5300640"/>
            <a:ext cx="4176720" cy="86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E27C-9B61-42F4-BFA3-8F02C79BE6B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imagen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écnicas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it menos significa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letra “A”  (10000011)  pode ser escondida em 3 pixels (imagem de 24 bi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ixels origina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0100111 11101001 1100100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0100111 11001000 1110100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1001000 00100111 1110100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ixels altera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0100111 111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10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010011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10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11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10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010011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11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588000" y="3716280"/>
            <a:ext cx="1657440" cy="16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9BBF-5A61-4883-BB3C-60773EE72AC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imagen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1116000" y="1916280"/>
            <a:ext cx="7759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imagem da direita contém o texto completo de cinco peças d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hakespeare incorporado (700 K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43280" y="558972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gura + (Hamlet, Macbeth, Julius Caesar, Merchant of Venice, King L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3762720" cy="28209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759120" cy="281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195E-3174-461B-A107-8609B4123F5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imagen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omo funciona esse canal esteganográfic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magem em corel original – 1024 x 768 pix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ixel – 3 números de 8 bits (R, G e 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étod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utilizar o bit de baixa ordem de cada valor de cor RGB como canal oculto. Cada pixel tem espaço para 3 bits de informações secretas (R, G e B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-se armazenar até 1024 x 768 x 3 bits = 294.912 bytes de informações secre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2996-2F25-4700-8C3A-3E31DFDBF1E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áudi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99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écnica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t menos significa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b por segundo por KiloHert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4 Kbps em um áudio de 44 KH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sconder dados no eco do áud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ariar 3 parâmetros: amplitude, depressão, del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659640" y="2781360"/>
            <a:ext cx="1584360" cy="1454040"/>
          </a:xfrm>
          <a:prstGeom prst="rect">
            <a:avLst/>
          </a:prstGeom>
          <a:ln w="0">
            <a:noFill/>
          </a:ln>
        </p:spPr>
      </p:pic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99C6-226D-4757-BE6E-D53F8222147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826920" y="1915920"/>
            <a:ext cx="763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is princípios fundamentais da criptograf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edundâ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tualid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 segurança é baseada em tem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gurança é baseada em 3 componen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te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c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8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- Segurança da Inform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8DF3-84C9-44AC-BAFD-62FC76CF1F1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47280" y="1699920"/>
            <a:ext cx="849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eção, detecção e reação aos incidentes de segurança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erminar qual informação e processos realmente precisam ser protegid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iar uma política de segurança para as atividades que possam colocar seu negócio em risc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erminar a melhor e mais rápida maneira de detectar violações, soando alarm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gir rapidamente a um incid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iar barreiras para que o ataque demore o tempo suficiente para que seja detect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er constantemente as políticas de controle de acesso e logs dos produtos de seguranç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nitorar o que você deseja proteg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car inform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ualizar constantemente seu ambi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zer documentações de sua experiênci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rmar a comunidade sobre novas ameaças que você encontra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- Segurança da Inform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E274-1A9F-4FF9-B558-E8E69E71C06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55640" y="1844640"/>
          <a:ext cx="7919640" cy="3170160"/>
        </p:xfrm>
        <a:graphic>
          <a:graphicData uri="http://schemas.openxmlformats.org/drawingml/2006/table">
            <a:tbl>
              <a:tblPr/>
              <a:tblGrid>
                <a:gridCol w="3225960"/>
                <a:gridCol w="4693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1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1bf">
                        <a:alpha val="50000"/>
                      </a:srgbClr>
                    </a:solidFill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criptográf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ormação matemática - converte uma mensagem em claro em uma mensagem cifrada e vice-vers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em - Cifra uma mens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tino - Decifra uma mens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uso – tenta interceptar e decifrar a mens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Terminolog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44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7080" y="5288040"/>
            <a:ext cx="79916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ce e Bob são personagens fictícios, mas são nomes sistematicamente utilizados pelos especialistas de criptografia. É mais colorido do que falar apenas no emissor e receptor, ou em A e B. Utiliza-se habitualmente uma terceira personagem, que costuma receber o nome de Eva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v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e que representa aquela que se põe à escuta - ou seja, aquela que “eavesdrop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4D10-4A54-4BFE-A82E-543E420D0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Segurança da Inform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gurança incondi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possível de ser queb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gurança computa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viável de ser queb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971640" y="4941720"/>
            <a:ext cx="7775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se sobre is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 primeiro ataque é sempre o mais perigoso”  (World Trade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1233-E9E4-4FE4-8567-73B001DA2DB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26920" y="1773000"/>
            <a:ext cx="763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por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cessita de chaves e/ou identifica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go que o usuário sabe (senh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go que o usuário possui (cartã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go que o usuário é (voz, digital, íris, rost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cessário gerenciar as chav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cessário distribuir as chav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786960" y="25992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Segurança da Inform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285F-9127-4CD5-8C1C-326549D41D6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474560" y="1989000"/>
            <a:ext cx="6481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riptografia não oferece nenhuma solução mágica para problemas de segurança na informática. O que oferece são técnicas que permitem escolher o terreno e a maneira que torne possível ao usuário se defender no mundo dos bits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1270080"/>
            <a:ext cx="74898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D220-7BA7-4CDD-9F4D-1822DD07846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7561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lvl="1" marL="482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ses da evolução da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8276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82760" indent="-18576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manu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82760" indent="-18576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por máqui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82760" indent="-18576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em r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5589720"/>
            <a:ext cx="79930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Historicamente quatro grupos de pessoas utilizaram e contribuíram para a arte da criptografia: os militares, os diplomatas, as pessoas que gostam de guardar memórias e os am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C816-5024-4231-BF61-2957E257B9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5614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lvl="1" marL="274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ptografia man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4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4680" indent="-10548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riptografia era feita manualmente através de algum processo predetermin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746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74680" indent="-10548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2264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 Cifras Hebra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2264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 Bastão de Licur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2264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 Crivo de Erastóte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2264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 Código de Políb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2264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 Código de Cés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34DF-E025-47D1-BB8D-A9E7CAF55B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82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600 a 500 a.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ribas hebreus, no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livro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 de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Jeremi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usaram a cifra de substituição simples pelo alfabeto reverso - ATBASH. Cifras mais conhecidas da época: ATBASH, o ALBAM e o ATBAH –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fras hebraic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TBAS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primeira letra do alfabeto hebreu (Aleph) é trocada pela última (Taw), a segunda letra (Beth) e trocada pela penúltima (Shin) e assim sucessivamente. Destas quatro letras deriva o nome da cifra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ph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w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th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- ATBASH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580000" y="1700280"/>
            <a:ext cx="1805040" cy="411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5580000" y="5950080"/>
            <a:ext cx="30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bs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.: O barro de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Phaistos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(1600 a.c)  ainda não decifr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7FB6-8698-4A36-A072-055BC591FD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 Macedo Fechine</cp:lastModifiedBy>
  <dcterms:modified xsi:type="dcterms:W3CDTF">2005-01-31T13:13:37Z</dcterms:modified>
  <cp:revision>538</cp:revision>
  <dc:subject/>
  <dc:title>Segurança da Informação</dc:title>
</cp:coreProperties>
</file>