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7A91C-5361-4F05-8DD9-3B14E1F5D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2D371-E240-4488-843C-055F7B9E2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0A60A-8B1D-4C2F-8369-AF0426ED7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832D-6108-4AC3-B110-EC58B7769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6D99C-FAD4-4C9B-9C60-003BC52A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6CC88-D792-440C-938F-5A9FC933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D0EA2-0040-44D9-A85B-D9568FC9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70563-862F-460E-9F95-34DBEEBD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AF802-CBD7-4C9C-A712-E4053266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50E1C-FF64-4D32-BCE9-75063EA0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0FCDB-A7C1-4F53-A3D2-09432519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2143D-0656-48B0-8047-BFC7465FE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638FE-A207-4177-BD74-22C97350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7E20E-F3C9-4350-B455-6252B54F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A16F0-155D-4205-87B4-CC3B5CB8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67929-D7A2-4F2D-9CFE-5989E77B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0CA7B-C90A-4F17-AC03-4B6754A2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FF13-1CAD-4B72-A64B-184F19787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C2ABB-7120-4F6D-8AE9-BB331BCC4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1A3B5-5511-4AEC-A02D-98FB022B9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A257C-DBE0-48A1-ABA0-C564B2D34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4086-9658-4EB6-86B9-F8DC6132E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F0403-9D65-4397-8753-5E7B52B5F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5A3E9-D7D0-446D-A272-E515E4F1C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11280" y="640080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7D8E-661C-4C7A-8DC4-35225D5769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03280" y="1557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D289-3436-4662-8205-4E455FFA92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263700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Impact"/>
              </a:rPr>
              <a:t>Segurança da Informação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rso de Especializa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6560" y="575136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4920" y="603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FET-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506920" y="5894280"/>
            <a:ext cx="792360" cy="763560"/>
            <a:chOff x="5506920" y="5894280"/>
            <a:chExt cx="792360" cy="763560"/>
          </a:xfrm>
        </p:grpSpPr>
        <p:sp>
          <p:nvSpPr>
            <p:cNvPr id="90" name=""/>
            <p:cNvSpPr/>
            <p:nvPr/>
          </p:nvSpPr>
          <p:spPr>
            <a:xfrm>
              <a:off x="5656320" y="5894280"/>
              <a:ext cx="492840" cy="63288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82960" y="6046200"/>
              <a:ext cx="439560" cy="4521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94120" y="6057360"/>
              <a:ext cx="417600" cy="42696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22200" y="6245280"/>
              <a:ext cx="360720" cy="23868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22200" y="6110640"/>
              <a:ext cx="361440" cy="24804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5725800" y="5936400"/>
              <a:ext cx="612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832000" y="5936400"/>
              <a:ext cx="4716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5916960" y="5936400"/>
              <a:ext cx="630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013800" y="5936400"/>
              <a:ext cx="6588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30800" y="6379200"/>
              <a:ext cx="168480" cy="155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506920" y="6375240"/>
              <a:ext cx="168480" cy="154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52640" y="6471360"/>
              <a:ext cx="122400" cy="6912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30800" y="6477120"/>
              <a:ext cx="120960" cy="687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53720" y="6476040"/>
              <a:ext cx="697320" cy="18180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 rot="1771800">
              <a:off x="5620680" y="6529680"/>
              <a:ext cx="259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 rot="1336200">
              <a:off x="5646240" y="654480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1336200">
              <a:off x="5678280" y="6556680"/>
              <a:ext cx="28080" cy="37440"/>
            </a:xfrm>
            <a:prstGeom prst="rect">
              <a:avLst/>
            </a:prstGeom>
          </p:spPr>
          <p:txBody>
            <a:bodyPr wrap="none" lIns="90000" rIns="90000" tIns="-9000" bIns="-9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 rot="1068600">
              <a:off x="5707800" y="6567120"/>
              <a:ext cx="288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 rot="898200">
              <a:off x="5735880" y="6574680"/>
              <a:ext cx="288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 rot="526200">
              <a:off x="5775840" y="6583320"/>
              <a:ext cx="331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 rot="235200">
              <a:off x="5812920" y="6588360"/>
              <a:ext cx="39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5859360" y="659088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893920" y="6591240"/>
              <a:ext cx="864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5908320" y="659124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 rot="21364200">
              <a:off x="5948640" y="6587280"/>
              <a:ext cx="259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 rot="21095400">
              <a:off x="5974560" y="6585120"/>
              <a:ext cx="295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 rot="20857800">
              <a:off x="6006600" y="6579360"/>
              <a:ext cx="30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 rot="20720400">
              <a:off x="6049800" y="657108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 rot="20418000">
              <a:off x="6076800" y="6564240"/>
              <a:ext cx="2880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20344200">
              <a:off x="6107760" y="6554160"/>
              <a:ext cx="306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 rot="20044200">
              <a:off x="6141600" y="6545520"/>
              <a:ext cx="86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20054400">
              <a:off x="6153480" y="6535080"/>
              <a:ext cx="2592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5167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FCG / 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24468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isciplina 4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, protocolos seguros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uas apl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Parte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81400" y="4935600"/>
            <a:ext cx="33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a.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Plano de Ensin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ópico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odologia, Técnicas de ens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ursos Didát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vali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bliograf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E10F-86E4-42C7-81CB-84C5C1E5F6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Objetiv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673280"/>
            <a:ext cx="808524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Discutir preliminarmente os principais conceitos, problemas e soluções relacionados ao uso da </a:t>
            </a:r>
            <a:r>
              <a:rPr b="1" lang="pt-BR" sz="2500" spc="-1" strike="noStrike">
                <a:solidFill>
                  <a:srgbClr val="000000"/>
                </a:solidFill>
                <a:latin typeface="Verdana"/>
              </a:rPr>
              <a:t>Criptografia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 no contexto da </a:t>
            </a:r>
            <a:r>
              <a:rPr b="1" lang="pt-BR" sz="2500" spc="-1" strike="noStrike">
                <a:solidFill>
                  <a:srgbClr val="000000"/>
                </a:solidFill>
                <a:latin typeface="Verdana"/>
              </a:rPr>
              <a:t>Segurança da Informação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9E923-35C0-4EB7-92A6-861CF3AB67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Tópic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89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Fundamentos de Criptografi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incipais técnicas de criptografia e suas aplicações em S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 padrão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dvanced Encryption Standard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(AE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ssinatura digital e protocolos criptográfic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ertificação digita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retty Good Privacy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(PGP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Virtual Private Networks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(VPN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MIME (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Secure Multiple Internet Mail Exchang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otocolos seguros: IPSec (Internet Protocol Security).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Pv6. SSL (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Secure Sockets Layer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). SET (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Secure Electronic Paymen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63ABD-FB82-43DB-9083-D5C6010DF3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Metodologia, Técnicas de Ensin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31376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ulas expositiv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tividades individuais e em grup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22733-7171-4EF0-932A-414111C0A7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Recursos Didátic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adro bran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atasho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gramas de Simulação de domínio públ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33602-1E11-49C2-80FF-A694B1BDDB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valiaçã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Contínua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pt-BR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valiações individuais e trabalhos em laboratóri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Trabalhos interativos de pesquisa extra-classe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pt-BR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dividuais e em grup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Verdana"/>
              </a:rPr>
              <a:t>Trabalhos de pesquisa em sala de aul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pt-BR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dividuais e em grup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3B0ED-CB49-4390-AC57-F61105F502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Bibliografi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4247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33480" indent="-4762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ryptography and Network Security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llings, W., 2nd Edition, Prentice Hall, 1998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riptografia e Segurança - O guia oficial RS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Burnett, S. e Paine, S., Editora Campus, 200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Redes de Computadores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Tanenbaum, A. S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dição, Editora Campus, 200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ryptography Theory and Practi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tinson, D., 2nd Edition, CRC Press, 200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he Codebreakers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ahn, D., 2nd Edition, Macmillan, 199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Network Security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Kaufman, C., Perlman, R. Speciner, M.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nd Editio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Prentice Hall, 200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9DB32-B069-4BBD-A694-AD2BBDA553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Bibliografia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33480" indent="-47628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pplied Cryptography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neier, B., 2nd Edition, John Wiley &amp; Sons, Inc., 1996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PGP: Pretty Good Privacy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Garfinkel, S., O’Reilly &amp; Associates, Inc., 199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Modern Operating System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anenbaum, A. S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2nd Edition, Prentice Hall, 1998, 200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postilas e Manuais Técnicos de Autores/Fabricantes Divers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EA2B-63C0-46C1-A0C1-573D14DB80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55640" y="174600"/>
            <a:ext cx="7924680" cy="4191120"/>
          </a:xfrm>
          <a:prstGeom prst="cloudCallout">
            <a:avLst>
              <a:gd name="adj1" fmla="val -41064"/>
              <a:gd name="adj2" fmla="val 65986"/>
            </a:avLst>
          </a:prstGeom>
          <a:solidFill>
            <a:srgbClr val="fbfccc">
              <a:alpha val="50000"/>
            </a:srgbClr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Georgia"/>
              </a:rPr>
              <a:t>“</a:t>
            </a:r>
            <a:r>
              <a:rPr b="1" i="1" lang="en-US" sz="2000" spc="-1" strike="noStrike">
                <a:solidFill>
                  <a:srgbClr val="006666"/>
                </a:solidFill>
                <a:latin typeface="Georgia"/>
              </a:rPr>
              <a:t>Existem homens de bom senso que, por serem incapazes de decifrar as coisas que são ‘grego’ para eles, convencem-se de que a lógica e a filosofia estão acima deles. Pois bem, gostaria que vissem que, assim como a natureza os dotou de olhos com os quais podem enxergar as obras dela, também lhes concedeu cérebros para penetrar e compreendê-la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89040" y="5581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f5f5f"/>
                </a:solidFill>
                <a:latin typeface="Times New Roman"/>
              </a:rPr>
              <a:t>Galileu Gali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160" y="497376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C4C54-6215-42C1-8C69-070E283394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332000" y="1268280"/>
            <a:ext cx="7561080" cy="4701240"/>
            <a:chOff x="1332000" y="1268280"/>
            <a:chExt cx="7561080" cy="47012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332000" y="1413000"/>
              <a:ext cx="6985080" cy="45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403280" y="1989000"/>
              <a:ext cx="6769080" cy="39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Verdana"/>
                </a:rPr>
                <a:t>O que é Criptografia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17080" y="1268280"/>
              <a:ext cx="576000" cy="64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631B1-5F88-431D-B12D-5E8AE38599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187280" y="1268280"/>
            <a:ext cx="7632720" cy="4673880"/>
            <a:chOff x="1187280" y="1268280"/>
            <a:chExt cx="7632720" cy="4673880"/>
          </a:xfrm>
        </p:grpSpPr>
        <p:pic>
          <p:nvPicPr>
            <p:cNvPr id="130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1187280" y="1413000"/>
              <a:ext cx="6985080" cy="45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258920" y="2205000"/>
              <a:ext cx="6769080" cy="24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Verdana"/>
                </a:rPr>
                <a:t>Criptograf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kriptos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= oculto +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graphos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= grafi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te ou a ciência de escrever em cifras (código)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72360" y="1268280"/>
              <a:ext cx="64764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4A7FE-1A5C-423F-BF69-D544BAC6FA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Visão Geral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ão é “possível” apresentar roteiros ou receitas para segurança na informátic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post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estudo  dos conceitos, técnicas e procedimentos mais eficazes hoje conhecidos para a construção de mecanismos criptográficos de proteção a dados digitais, e de meios para esses mecanismos se integrarem a sistemas de informação que se queira protege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A85DA-D1C9-4BDC-B6F2-E201A62806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Visão Geral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mundo das redes e com o comércio eletrônico, todo sistema de computador se tornou um alvo em potencial para intruso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ble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não há como saber os motivos que levam o intruso a agir e nem quando este pode atacar, contudo é importante tentar se previnir utilizando mecanismos de proteç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4E107-0174-4B89-8F73-240D088B9F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Visão Geral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correio eletrônico à telefonia celular, do acesso seguro a servidores WEB à moeda eletrônica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riptografia é parte essencial dos sistemas de informação de hoj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ptografia ajuda a imputa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ponsabilida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romover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ustiç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rove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urác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cida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d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evenir fraud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m comércio eletrônico 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arantir a valida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 transações financeira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ada apropriadamente, protege a anonimidade e fornece provas de identidade de pessoa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AE53-D270-4C59-A004-AF34FB1291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Visão Geral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riptografia existente hoje no mercado, em alguns casos, não fornece a segurança que aprega o seu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arke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lhões de dólares são gastos em segurança de computadores, e muito é desperdiçado em produtos insegur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B5FE7-A41F-40AE-BB1C-008C5C2C19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Visão Geral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s ataques a sistemas de informação são dos mais variados tipos (no comércio eletrônico, no correio eletrônico, nas páginas digitais, etc.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informatização torna os riscos maiores ainda, permitindo ataques automatizados, impossíveis de serem conduzidos contra sistemas não automatizado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penas com a criptografia forte pode-se proteger os sistemas de informação contra estes tipos de ataqu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A0553-0BB6-4C96-9B17-F9DF666B02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26920" y="3860640"/>
            <a:ext cx="7705800" cy="2016360"/>
          </a:xfrm>
          <a:prstGeom prst="ellipse">
            <a:avLst/>
          </a:prstGeom>
          <a:solidFill>
            <a:srgbClr val="99ccc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7160" y="159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Visão Geral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 que a criptografia pode e não pode faze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garantia de 100% de segurança é uma falácia, mas é possível trabalhar em direção a 100% de aceitação de risco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m bom sistema criptográfico atinge o equilíbrio entre o que é possível e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 que é aceitáv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79478-66E1-41F4-90D2-4E7475FDDC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0:28:21Z</dcterms:created>
  <dc:creator>Paqtc-pb</dc:creator>
  <dc:description/>
  <dc:language>en-US</dc:language>
  <cp:lastModifiedBy>Joseana Macedo Fechine</cp:lastModifiedBy>
  <dcterms:modified xsi:type="dcterms:W3CDTF">2005-01-28T12:10:18Z</dcterms:modified>
  <cp:revision>419</cp:revision>
  <dc:subject/>
  <dc:title>Segurança da Informação</dc:title>
</cp:coreProperties>
</file>