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29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10AEF7-BC8B-4143-8CE7-4C8E5A5363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DF3205-0E0C-402D-B73E-2A7838224A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EC9E5F-37DC-4FD7-B0BD-8DCACD20F2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07525A-09D4-4780-95DE-2ED5FF014F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C3813B-E4E0-4619-8194-9F7B8544FA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58F5B9-119F-4599-876D-537E505667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8833E7-416E-4441-8A73-87A06D1983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6BF06A-4195-4FD6-B431-A2FDDC695E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C4D8A5-8B2D-489F-B6B6-A710544A7F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BFCAD3-A127-4229-ADBA-4406552310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CABD1C-ACAF-4C3B-BA0B-EE977F46E2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E6AB6B-260E-4B4E-84A4-C5A85848EE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2C8E94-DAA9-4F81-8E86-5E4655FB14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0FE74C-A5BA-4B7A-85FE-9D2021C82E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0FDF32-A9E0-4D26-9AE4-C0C529799F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514325-5C57-43FF-BC1C-EC917E70EF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3D7901-C9C4-4EB3-BB6A-23B09B1D8B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4F4BC5-537C-40EC-939A-195E9B5C1E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DCA422-ECD2-4308-8013-59031AD22C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DD7524-8FCF-4CBF-8B79-13E559C60B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FBA0E2-827F-4860-B687-FFB0769384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68F16D-8774-4D64-8910-8D56A7E47C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16D3FA-4138-4067-B996-F83E4401C2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731748-FDDE-4D52-AF7A-D961A72E30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B153CF-1806-48FE-B288-BFA673F81C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750555-E42C-4697-962E-9E556F6EF7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17376-3166-43D6-9C17-EAAF6557C3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09E72D-BE9F-4F15-9B4E-CE2C2274B5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BB0026-EECB-4800-B3B7-3D7320AF69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66D8E6-3E30-432F-B5D8-3432F1A0AC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8618-312D-4EF7-88E8-A0DFD404D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EDB0-F44F-4DA6-A8BD-72D76F400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1319-5117-43D5-9D34-62C63459F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0FCF-1DFE-44EB-B751-328C191D1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E852-6D7B-4266-8227-AD7A0378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DA856-131A-47C5-A614-F51C64B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13D79-59C4-4EFE-8417-2A9429EF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0E05A-19A2-4ABD-8B73-704EEE65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5E6F7-A7C2-4FC5-B0E5-F36F004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E511-E0A2-489B-B7B4-C5241B7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4A9B-72CD-420A-83AB-65F9E8A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AEF9-B8AD-47EE-A1B5-29DE6B9D3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575AC-E9AB-4E42-B527-BB5C9E4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9E2B-4B1D-4110-8D92-37F98C5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F8012-3E8B-4128-BDC1-BDBC9DC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7AB7B-4BB6-4993-81FF-7108A0A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AD6A7-43B2-432B-84B2-4EFEB99F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FE03-FDD8-49C2-8489-38A1C2FAC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5CCB-E79F-40CF-9AC9-0426ECD21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AE20-D9B1-4810-B402-9DDBFEAF2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C9A7-7F7D-489B-A64F-55A63EDD8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9866-0207-44F7-8BB2-2228218C6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D78C-7612-485D-BC93-32E43A992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7AFE-7528-42DB-B6D6-D01DE2C4E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1C5-CF97-4EAE-81AE-52B9E15325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F652-6F2C-48D1-8424-2D1FAC398D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7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Exemplo - Criptoanál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31640" y="2491920"/>
            <a:ext cx="6985080" cy="37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W = d, N =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D20B-E219-4D7A-A80F-D7F4C1B3FB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7018560" cy="36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C,D,F,J,R,Y (t,a,o,i,n,s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A29C-4500-4122-B3AC-4E916E577D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32000" y="256536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 = t, C =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76E4-E80F-4E31-920B-5A08331E8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32000" y="2636640"/>
            <a:ext cx="712944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 = t, C =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527120" y="18194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57AC-8BBF-4EAC-9AB2-89EF3EBE12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31640" y="2565000"/>
            <a:ext cx="72342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D,F,R,Y (o,i,n,s,r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E7A3-630F-4071-91DE-6FF86916A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8920" y="299736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0182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 = n (trigrama an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756A-BE2D-4709-9787-E77BAE6F18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03280" y="2528640"/>
            <a:ext cx="712944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 = n (trigrama and)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4CE0-D75D-4EBF-8B78-6CD94E31ED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8728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58560" y="2565360"/>
            <a:ext cx="6985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D,F,Y (o,i,s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1B83-B95D-407F-BCD3-AD2F1752FA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1600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0563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 = i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3B4E-3A4B-4238-AFA3-11E8C2CBFC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4292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58920" y="2491920"/>
            <a:ext cx="741672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 =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i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48B9-190D-4BCF-888D-06C0CD605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9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análise – Cifra de substit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cilmente realizada analisando-se a frequência dos símbolos (letras, digramas e trigram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glê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(1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, A, O, I, N, S, H, R (de 6 a 9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, L (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, U, M, W, F, G, Y, P, B (de 2,8 a 1,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, K, J, X, Q, Z (menos de 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1AFA-00B1-46A0-AC70-05740B356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8920" y="2565360"/>
            <a:ext cx="70898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D = s, U = w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i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2A7-0906-421E-A6BE-6D3C47EF0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4292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258560" y="2565360"/>
            <a:ext cx="7305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D = s, U = w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2CD4-52C9-44CF-8235-17530230D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332000" y="2565000"/>
            <a:ext cx="708984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F,Y (o,r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DDA3-D0F6-46D9-96F3-61543F949D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69800" y="2636640"/>
            <a:ext cx="723420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 = r, Y = o (análise: X = l, Q =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2DB5-F974-437C-9111-740C8E5DD2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16000" y="3213000"/>
            <a:ext cx="720108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716112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 = r, Y = o (análise: X = l, Q =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5569-4D6C-4263-8FAD-B8D482ADA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3070080"/>
            <a:ext cx="720108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71600" y="2565360"/>
            <a:ext cx="71611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I = u, V =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7223-C6BB-4B26-AB0B-BC7C0D4B82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8728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69800" y="2637000"/>
            <a:ext cx="7234200" cy="31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I = u, V =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13B8-0A84-48BE-B581-DBFE10C882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87280" y="328608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698508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: E, H, S (c, u, g, y, p, 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527120" y="1916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D779-2877-49E0-8FF6-C2730EDA74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403280" y="2636640"/>
            <a:ext cx="71611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 = p, H =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FFB3-547B-4C76-A00D-BC80F29310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7280" y="328608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331640" y="2707920"/>
            <a:ext cx="70182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 = p, H =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1527120" y="1916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BA99-4F11-47C4-A8DE-8C050CF1A2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i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, HE, IN, ER, AN, RE, ED, ON, ES, ST, EN, AT, TO, NT, HA, ND, OU, EA, NG, AS, OR, TI, IS, ET, IT, AR, TE, SE, HI,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i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E, ING, AND, HER, ERE, ENT, THA, NTH, WAS, ETH, FOR, D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9539-E605-4BCB-ABAD-3EF8DDD22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58920" y="307008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403280" y="2636640"/>
            <a:ext cx="701856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S = k, T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758B-FC83-440E-AB62-EA0329393D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32000" y="2637000"/>
            <a:ext cx="7092720" cy="31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S = k, T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g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k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king 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k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1BA4-CBB5-4447-92D5-9372D9D14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720108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xemplo: Texto cifr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YIF QFMZRW QFYV ECFMD ZPCVMRZ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VEJB TXCDD UMJN DIFEFMDZ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KCEYFCJMYR NCW JCSZR EXCHZ UNMXZ 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CDRJ XYYSMRT M EYIFZW DYVZ VYF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MRZ CRW NZ DZJJXZ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NCMF QCHZ JMXJZW IE JYUCFWD JNZ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4B9E-AF8C-4FFC-8D8C-B0830E6F7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835280" y="2565360"/>
          <a:ext cx="5859360" cy="34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565360"/>
                    <a:ext cx="585936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403280" y="177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reqüência das le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B09E-B99D-49FC-801D-650ADA4C3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76000" y="2637000"/>
            <a:ext cx="727236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Z =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9AE0-AC14-455B-B8AC-DE399B833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06520" y="2565000"/>
            <a:ext cx="71978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C,D,F,J,R,Y,N (t,a,o,i,n,s,h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2B01-7E53-4AAD-B80A-2924EA0F1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985080" cy="33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igramas (he, er, re, ed, es, en, 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B9C1-EADB-45A0-AE58-BF9C28C130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58920" y="3213000"/>
            <a:ext cx="684216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560" y="2599920"/>
            <a:ext cx="730548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W = d, N =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4DC8-36D5-45D2-9D61-BB71414B4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9T20:12:40Z</dcterms:modified>
  <cp:revision>881</cp:revision>
  <dc:subject/>
  <dc:title>Segurança da Informação</dc:title>
</cp:coreProperties>
</file>