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19.png" ContentType="image/png"/>
  <Override PartName="/ppt/media/image21.png" ContentType="image/png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51FC-3CBC-435C-B189-53CC2E997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D411-13F8-43FE-BF1B-D74A1A301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E685-7BDA-44D9-BBBD-05B076453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F72D-29E9-4523-BAE6-CC49023B7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3DF96-E8F3-4663-B939-6B5F87A06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68FF0-570E-4965-A2DD-85BD2C22A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0C0FE-1A63-48A0-819A-A25CD0678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5A8E8-57E9-48FB-9A72-B3D3BEB00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DAF52-B336-48A2-8169-6DCBE7853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B0838-CB39-4A5F-B3B4-DFD6227E0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7DBE2-0555-43AB-83FF-57AB355D6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F543-C05C-45EF-A186-1A2546C92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E31ED-E2B3-4F7D-8C63-8499D5A4D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1E95D-8AA7-49DF-9F73-D59C23830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35AB4-ADD1-4E99-9EAF-2FF1D58D7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72B00-D203-4CB9-BA36-C71EBFED4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34B06-A827-438F-A158-8D337B332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C3A9-FE2F-4726-ACEF-851730778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7F82-09F8-4DA1-A635-8B09906B5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F281-27DB-468D-A01F-5E9F661E3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D425-039B-4E43-98AF-BC0262DF2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999A-C52E-4CE1-98DE-EBB8F667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6EF6-D77E-48AB-B522-AA84645B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CBDE-5976-4266-8A3B-EB17F8A18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mboo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A2451-C15D-48BA-ABFF-9B46B7FD22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bamboo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AA5AE-2AFF-4F3A-99B3-8C564A6DA2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2131200"/>
            <a:ext cx="624816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990000"/>
                </a:solidFill>
                <a:latin typeface="Times New Roman"/>
              </a:rPr>
              <a:t>Atenção Visual</a:t>
            </a:r>
            <a:endParaRPr b="0" lang="en-US" sz="5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6019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00"/>
                </a:solidFill>
                <a:latin typeface="Times New Roman"/>
              </a:rPr>
              <a:t>Disciplina: Inteligência Artifi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00"/>
                </a:solidFill>
                <a:latin typeface="Times New Roman"/>
              </a:rPr>
              <a:t>Prof. Herman Martins G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00"/>
                </a:solidFill>
                <a:latin typeface="Times New Roman"/>
              </a:rPr>
              <a:t>Estagiário: Fabrício Rodrig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Olho" descr=""/>
          <p:cNvPicPr/>
          <p:nvPr/>
        </p:nvPicPr>
        <p:blipFill>
          <a:blip r:embed="rId1"/>
          <a:stretch/>
        </p:blipFill>
        <p:spPr>
          <a:xfrm>
            <a:off x="2590920" y="324000"/>
            <a:ext cx="2035080" cy="16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45468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00"/>
                </a:solidFill>
                <a:latin typeface="Times New Roman"/>
              </a:rPr>
              <a:t>Fisiologia da Visão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7696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990000"/>
                </a:solidFill>
                <a:latin typeface="Times New Roman"/>
              </a:rPr>
              <a:t>Núcleo Geniculado Later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5f5f5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00"/>
                </a:solidFill>
                <a:latin typeface="Times New Roman"/>
              </a:rPr>
              <a:t>Está localizado no tálamo, sendo o núcleo mais estudad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5f5f5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00"/>
                </a:solidFill>
                <a:latin typeface="Times New Roman"/>
              </a:rPr>
              <a:t>Estágio intermediário entre a retina e o córtex visua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5f5f5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00"/>
                </a:solidFill>
                <a:latin typeface="Times New Roman"/>
              </a:rPr>
              <a:t>Principais funçõ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00"/>
                </a:solidFill>
                <a:latin typeface="Times New Roman"/>
              </a:rPr>
              <a:t>Retransmitir informações visuais do trato óptico para o córtex visu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00"/>
                </a:solidFill>
                <a:latin typeface="Times New Roman"/>
              </a:rPr>
              <a:t>Controlar a quantidade de informações que têm permissão para chegar até o córtex visu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45468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00"/>
                </a:solidFill>
                <a:latin typeface="Times New Roman"/>
              </a:rPr>
              <a:t>Fisiologia da Visão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7696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990000"/>
                </a:solidFill>
                <a:latin typeface="Times New Roman"/>
              </a:rPr>
              <a:t>Núcleo Geniculado Later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TalamoLGN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6553080" cy="45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45468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00"/>
                </a:solidFill>
                <a:latin typeface="Times New Roman"/>
              </a:rPr>
              <a:t>Fisiologia da Visão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7696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990000"/>
                </a:solidFill>
                <a:latin typeface="Times New Roman"/>
              </a:rPr>
              <a:t>Colículo Superi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5f5f5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00"/>
                </a:solidFill>
                <a:latin typeface="Times New Roman"/>
              </a:rPr>
              <a:t>Principal função: controle dos movimentos direcionais rápidos dos olhos - SACADA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5f5f5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00"/>
                </a:solidFill>
                <a:latin typeface="Times New Roman"/>
              </a:rPr>
              <a:t>Não mais que 10% do tempo de total, necessário para fixação dos olhos, é gasto no moviment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5f5f5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00"/>
                </a:solidFill>
                <a:latin typeface="Times New Roman"/>
              </a:rPr>
              <a:t>Razão biológica: Necessidade de localizar a fóvea nas regiões mais importantes de uma cena visua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240" y="45468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00"/>
                </a:solidFill>
                <a:latin typeface="Times New Roman"/>
              </a:rPr>
              <a:t>Fisiologia da Visão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990000"/>
                </a:solidFill>
                <a:latin typeface="Times New Roman"/>
              </a:rPr>
              <a:t>Colículo Superi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5f5f5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00"/>
                </a:solidFill>
                <a:latin typeface="Times New Roman"/>
              </a:rPr>
              <a:t>Características dos movimentos sacádic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3300"/>
                </a:solidFill>
                <a:latin typeface="Times New Roman"/>
              </a:rPr>
              <a:t>Delay</a:t>
            </a:r>
            <a:r>
              <a:rPr b="0" lang="pt-BR" sz="2400" spc="-1" strike="noStrike">
                <a:solidFill>
                  <a:srgbClr val="003300"/>
                </a:solidFill>
                <a:latin typeface="Times New Roman"/>
              </a:rPr>
              <a:t>: o tempo entre o começo do estímulo e a preparação do movimento varia entre 200 e 300 m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00"/>
                </a:solidFill>
                <a:latin typeface="Times New Roman"/>
              </a:rPr>
              <a:t>Duração</a:t>
            </a:r>
            <a:r>
              <a:rPr b="0" lang="pt-BR" sz="2400" spc="-1" strike="noStrike">
                <a:solidFill>
                  <a:srgbClr val="003300"/>
                </a:solidFill>
                <a:latin typeface="Times New Roman"/>
              </a:rPr>
              <a:t>: depende da amplitude (geralmente menor que 15</a:t>
            </a:r>
            <a:r>
              <a:rPr b="0" lang="pt-BR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°). Varia de 10ms (1°) até 70ms (20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Laço</a:t>
            </a:r>
            <a:r>
              <a:rPr b="0" lang="pt-BR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r>
              <a:rPr b="1" lang="pt-BR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aberto</a:t>
            </a:r>
            <a:r>
              <a:rPr b="0" lang="pt-BR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: depois de iniciada, a trajetória de uma sacada não pode ser modificad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Efeito</a:t>
            </a:r>
            <a:r>
              <a:rPr b="0" lang="pt-BR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r>
              <a:rPr b="1" lang="pt-BR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Global</a:t>
            </a:r>
            <a:r>
              <a:rPr b="0" lang="pt-BR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: quando uma sacada é produzida por dois estímulos vizinhos, ela aporta em algum lugar no meio e não em um de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45468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00"/>
                </a:solidFill>
                <a:latin typeface="Times New Roman"/>
              </a:rPr>
              <a:t>Fisiologia da Visão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7696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990000"/>
                </a:solidFill>
                <a:latin typeface="Times New Roman"/>
              </a:rPr>
              <a:t>Córtex Visual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pl-PL" sz="3200" spc="-1" strike="noStrike">
                <a:solidFill>
                  <a:srgbClr val="990000"/>
                </a:solidFill>
                <a:latin typeface="Times New Roman"/>
              </a:rPr>
              <a:t>Primário</a:t>
            </a:r>
            <a:r>
              <a:rPr b="1" lang="pt-BR" sz="3200" spc="-1" strike="noStrike">
                <a:solidFill>
                  <a:srgbClr val="99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5f5f5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00"/>
                </a:solidFill>
                <a:latin typeface="Times New Roman"/>
              </a:rPr>
              <a:t>Região do córtex cerebral que responde aos estímulos visuai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5f5f5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00"/>
                </a:solidFill>
                <a:latin typeface="Times New Roman"/>
              </a:rPr>
              <a:t>Está localizado nos lobos occipitai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5f5f5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00"/>
                </a:solidFill>
                <a:latin typeface="Times New Roman"/>
              </a:rPr>
              <a:t>Processa 90% da informação visua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5f5f5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00"/>
                </a:solidFill>
                <a:latin typeface="Times New Roman"/>
              </a:rPr>
              <a:t>Divido em áreas hierarquicamente organizada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5f5f5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00"/>
                </a:solidFill>
                <a:latin typeface="Times New Roman"/>
              </a:rPr>
              <a:t>Cada área é responsável por um aspecto específico da informação visual (disparidade espacial, temporal, cromática e binocular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240" y="45468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00"/>
                </a:solidFill>
                <a:latin typeface="Times New Roman"/>
              </a:rPr>
              <a:t>Fisiologia da Visão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7696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990000"/>
                </a:solidFill>
                <a:latin typeface="Times New Roman"/>
              </a:rPr>
              <a:t>Córtex Visual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pt-BR" sz="3200" spc="-1" strike="noStrike">
                <a:solidFill>
                  <a:srgbClr val="990000"/>
                </a:solidFill>
                <a:latin typeface="Times New Roman"/>
              </a:rPr>
              <a:t>Primár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head" descr=""/>
          <p:cNvPicPr/>
          <p:nvPr/>
        </p:nvPicPr>
        <p:blipFill>
          <a:blip r:embed="rId1"/>
          <a:stretch/>
        </p:blipFill>
        <p:spPr>
          <a:xfrm>
            <a:off x="2057400" y="2108160"/>
            <a:ext cx="454356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45468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00"/>
                </a:solidFill>
                <a:latin typeface="Times New Roman"/>
              </a:rPr>
              <a:t>Atenção Visual em Máquina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990000"/>
                </a:solidFill>
                <a:latin typeface="Times New Roman"/>
              </a:rPr>
              <a:t>Processos Atenciona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5f5f5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00"/>
                </a:solidFill>
                <a:latin typeface="Times New Roman"/>
              </a:rPr>
              <a:t>Mecanismos de alocação de recursos computacionais  a uma dada região da cena visua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5f5f5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00"/>
                </a:solidFill>
                <a:latin typeface="Times New Roman"/>
              </a:rPr>
              <a:t>Permite maior eficiência no processament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5f5f5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00"/>
                </a:solidFill>
                <a:latin typeface="Times New Roman"/>
              </a:rPr>
              <a:t>Assegura tratabilidad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5f5f5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00"/>
                </a:solidFill>
                <a:latin typeface="Times New Roman"/>
              </a:rPr>
              <a:t>Atenção visual seletiva é a maior contribuição para a redução da quantidade de computação requerida em qualquer sistema de visão (Tsotsos, 1990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240" y="45468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00"/>
                </a:solidFill>
                <a:latin typeface="Times New Roman"/>
              </a:rPr>
              <a:t>Atenção Visual em Máquina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990000"/>
                </a:solidFill>
                <a:latin typeface="Times New Roman"/>
              </a:rPr>
              <a:t>Controle Atencion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5f5f5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3300"/>
                </a:solidFill>
                <a:latin typeface="Times New Roman"/>
              </a:rPr>
              <a:t>Top-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5f5f5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3300"/>
                </a:solidFill>
                <a:latin typeface="Times New Roman"/>
              </a:rPr>
              <a:t>Botton-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429000" y="2133720"/>
            <a:ext cx="2819520" cy="1863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429000" y="4611600"/>
            <a:ext cx="2819520" cy="18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240" y="45468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00"/>
                </a:solidFill>
                <a:latin typeface="Times New Roman"/>
              </a:rPr>
              <a:t>Atenção Visual em Máquina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990000"/>
                </a:solidFill>
                <a:latin typeface="Times New Roman"/>
              </a:rPr>
              <a:t>Controle Atencion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5f5f5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3300"/>
                </a:solidFill>
                <a:latin typeface="Times New Roman"/>
              </a:rPr>
              <a:t>Top-down</a:t>
            </a:r>
            <a:r>
              <a:rPr b="0" lang="pt-BR" sz="2800" spc="-1" strike="noStrike">
                <a:solidFill>
                  <a:srgbClr val="0033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00"/>
                </a:solidFill>
                <a:latin typeface="Times New Roman"/>
              </a:rPr>
              <a:t>Baseado em um conjunto de modelos armazenad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00"/>
                </a:solidFill>
                <a:latin typeface="Times New Roman"/>
              </a:rPr>
              <a:t>Baseia-se na memória ou tem natureza cognitiv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00"/>
                </a:solidFill>
                <a:latin typeface="Times New Roman"/>
              </a:rPr>
              <a:t>Depende da tarefa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00"/>
                </a:solidFill>
                <a:latin typeface="Times New Roman"/>
              </a:rPr>
              <a:t>Opera de forma seqüencial e com esforço conscient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00"/>
                </a:solidFill>
                <a:latin typeface="Times New Roman"/>
              </a:rPr>
              <a:t>Pouco se sabe sobre as instâncias neurais que compõem a atenção </a:t>
            </a:r>
            <a:r>
              <a:rPr b="0" i="1" lang="pt-BR" sz="2400" spc="-1" strike="noStrike">
                <a:solidFill>
                  <a:srgbClr val="003300"/>
                </a:solidFill>
                <a:latin typeface="Times New Roman"/>
              </a:rPr>
              <a:t>Top-down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240" y="45468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00"/>
                </a:solidFill>
                <a:latin typeface="Times New Roman"/>
              </a:rPr>
              <a:t>Atenção Visual em Máquina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990000"/>
                </a:solidFill>
                <a:latin typeface="Times New Roman"/>
              </a:rPr>
              <a:t>Controle Atencion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5f5f5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3300"/>
                </a:solidFill>
                <a:latin typeface="Times New Roman"/>
              </a:rPr>
              <a:t>Top-down</a:t>
            </a:r>
            <a:r>
              <a:rPr b="0" lang="pt-BR" sz="2800" spc="-1" strike="noStrike">
                <a:solidFill>
                  <a:srgbClr val="0033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00"/>
                </a:solidFill>
                <a:latin typeface="Times New Roman"/>
              </a:rPr>
              <a:t>A idéia é encontrar regiões onde haja maior </a:t>
            </a:r>
            <a:r>
              <a:rPr b="1" lang="pt-BR" sz="2400" spc="-1" strike="noStrike">
                <a:solidFill>
                  <a:srgbClr val="003300"/>
                </a:solidFill>
                <a:latin typeface="Times New Roman"/>
              </a:rPr>
              <a:t>variação</a:t>
            </a:r>
            <a:r>
              <a:rPr b="0" lang="pt-BR" sz="2400" spc="-1" strike="noStrike">
                <a:solidFill>
                  <a:srgbClr val="003300"/>
                </a:solidFill>
                <a:latin typeface="Times New Roman"/>
              </a:rPr>
              <a:t> entre os model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00"/>
                </a:solidFill>
                <a:latin typeface="Times New Roman"/>
              </a:rPr>
              <a:t>A variação pode ser medida de várias maneiras (ex. desvio padrão, variânci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00"/>
                </a:solidFill>
                <a:latin typeface="Times New Roman"/>
              </a:rPr>
              <a:t>As regiões com maior variação formam um roteiro de sacad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00"/>
                </a:solidFill>
                <a:latin typeface="Times New Roman"/>
              </a:rPr>
              <a:t>Mapa de atenção tem roteiro de sacadas fix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00"/>
                </a:solidFill>
                <a:latin typeface="Times New Roman"/>
              </a:rPr>
              <a:t>Estratégia razoável para base de dados homogênea, podendo ser desastrosa para bases mais heterogêne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45468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00"/>
                </a:solidFill>
                <a:latin typeface="Times New Roman"/>
              </a:rPr>
              <a:t>Roteiro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00"/>
                </a:solidFill>
                <a:latin typeface="Times New Roman"/>
              </a:rPr>
              <a:t>Introdu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00"/>
                </a:solidFill>
                <a:latin typeface="Times New Roman"/>
              </a:rPr>
              <a:t>Fisiologia da Vis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00"/>
                </a:solidFill>
                <a:latin typeface="Times New Roman"/>
              </a:rPr>
              <a:t>Atenção Visual em Máqui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5f5f5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00"/>
                </a:solidFill>
                <a:latin typeface="Times New Roman"/>
              </a:rPr>
              <a:t>O Modelo de Itti e Ko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00"/>
                </a:solidFill>
                <a:latin typeface="Times New Roman"/>
              </a:rPr>
              <a:t>Considerações Fin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240" y="45468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Atenção Visual em Máquina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990000"/>
                </a:solidFill>
                <a:latin typeface="Times New Roman"/>
              </a:rPr>
              <a:t>Controle Atencion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5f5f5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3300"/>
                </a:solidFill>
                <a:latin typeface="Times New Roman"/>
              </a:rPr>
              <a:t>Top-down</a:t>
            </a:r>
            <a:r>
              <a:rPr b="0" lang="pt-BR" sz="2800" spc="-1" strike="noStrike">
                <a:solidFill>
                  <a:srgbClr val="0033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00"/>
                </a:solidFill>
                <a:latin typeface="Times New Roman"/>
              </a:rPr>
              <a:t>Exemplo de um roteiro de sac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495520" y="3276720"/>
            <a:ext cx="299088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240" y="45468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Atenção Visual em Máquina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990000"/>
                </a:solidFill>
                <a:latin typeface="Times New Roman"/>
              </a:rPr>
              <a:t>Controle Atencion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5f5f5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3300"/>
                </a:solidFill>
                <a:latin typeface="Times New Roman"/>
              </a:rPr>
              <a:t>Bottom-up</a:t>
            </a:r>
            <a:r>
              <a:rPr b="0" i="1" lang="pt-BR" sz="28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003300"/>
                </a:solidFill>
                <a:latin typeface="Times New Roman"/>
              </a:rPr>
              <a:t>(baseado em saliência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00"/>
                </a:solidFill>
                <a:latin typeface="Times New Roman"/>
              </a:rPr>
              <a:t>Baseado em informações da image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00"/>
                </a:solidFill>
                <a:latin typeface="Times New Roman"/>
              </a:rPr>
              <a:t>Alto grau de paralelism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00"/>
                </a:solidFill>
                <a:latin typeface="Times New Roman"/>
              </a:rPr>
              <a:t>Independe de esforço consciente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5f5f5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00"/>
                </a:solidFill>
                <a:latin typeface="Times New Roman"/>
              </a:rPr>
              <a:t>Considerações importan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00"/>
                </a:solidFill>
                <a:latin typeface="Times New Roman"/>
              </a:rPr>
              <a:t>A percepção da saliência do estímulo depende criticamente do contexto ao seu red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00"/>
                </a:solidFill>
                <a:latin typeface="Times New Roman"/>
              </a:rPr>
              <a:t>Um </a:t>
            </a:r>
            <a:r>
              <a:rPr b="1" lang="pt-BR" sz="2400" spc="-1" strike="noStrike">
                <a:solidFill>
                  <a:srgbClr val="003300"/>
                </a:solidFill>
                <a:latin typeface="Times New Roman"/>
              </a:rPr>
              <a:t>Mapa de Saliência</a:t>
            </a:r>
            <a:r>
              <a:rPr b="0" lang="pt-BR" sz="2400" spc="-1" strike="noStrike">
                <a:solidFill>
                  <a:srgbClr val="003300"/>
                </a:solidFill>
                <a:latin typeface="Times New Roman"/>
              </a:rPr>
              <a:t> que codifica os estímulos eminentes na cena visual, tem provado ser uma estratégia plausível e eficient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240" y="45468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Atenção Visual em Máquina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7696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Controle Atencion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nibição ao retorno – o processo que impede que uma região tratada anteriormente seja tratada novamente, é um elemento crucial no process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A firme interação entre atenção e movimento dos olhos tem sido um dos desafios computacionai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Entendimento da cena e reconhecimento de objetos limita vigorosamente a seleção das regiõ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240" y="45468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Atenção Visual em Máquina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990000"/>
                </a:solidFill>
                <a:latin typeface="Times New Roman"/>
              </a:rPr>
              <a:t>Computação de características primitiv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5f5f5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00"/>
                </a:solidFill>
                <a:latin typeface="Times New Roman"/>
              </a:rPr>
              <a:t>É o primeiro estágio de processamento em qualquer modelo de atenção </a:t>
            </a:r>
            <a:r>
              <a:rPr b="0" i="1" lang="pt-BR" sz="2800" spc="-1" strike="noStrike">
                <a:solidFill>
                  <a:srgbClr val="003300"/>
                </a:solidFill>
                <a:latin typeface="Times New Roman"/>
              </a:rPr>
              <a:t>bottom-up</a:t>
            </a:r>
            <a:r>
              <a:rPr b="0" lang="pt-BR" sz="2800" spc="-1" strike="noStrike">
                <a:solidFill>
                  <a:srgbClr val="0033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5f5f5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00"/>
                </a:solidFill>
                <a:latin typeface="Times New Roman"/>
              </a:rPr>
              <a:t>Computa propriedades elementares da imagem, tais como: brilho, cor, bordas, ponto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5f5f5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00"/>
                </a:solidFill>
                <a:latin typeface="Times New Roman"/>
              </a:rPr>
              <a:t>Essas grandezas são usadas para segmentar a imagem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5f5f5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00"/>
                </a:solidFill>
                <a:latin typeface="Times New Roman"/>
              </a:rPr>
              <a:t>Produz mapas de característica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5f5f5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00"/>
                </a:solidFill>
                <a:latin typeface="Times New Roman"/>
              </a:rPr>
              <a:t>Dão origem a um Mapa de Saliênc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45468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Atenção Visual em Máquina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990000"/>
                </a:solidFill>
                <a:latin typeface="Times New Roman"/>
              </a:rPr>
              <a:t>Mapa de Saliênc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5f5f5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00"/>
                </a:solidFill>
                <a:latin typeface="Times New Roman"/>
              </a:rPr>
              <a:t>Mapa escalar bi-dimensional cuja a atividade representa topograficamente a saliência visua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5f5f5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00"/>
                </a:solidFill>
                <a:latin typeface="Times New Roman"/>
              </a:rPr>
              <a:t>Presente  na maioria dos modelos de atenção </a:t>
            </a:r>
            <a:r>
              <a:rPr b="0" i="1" lang="pt-BR" sz="2800" spc="-1" strike="noStrike">
                <a:solidFill>
                  <a:srgbClr val="003300"/>
                </a:solidFill>
                <a:latin typeface="Times New Roman"/>
              </a:rPr>
              <a:t>bottom-up</a:t>
            </a:r>
            <a:r>
              <a:rPr b="0" lang="pt-BR" sz="2800" spc="-1" strike="noStrike">
                <a:solidFill>
                  <a:srgbClr val="0033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5f5f5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00"/>
                </a:solidFill>
                <a:latin typeface="Times New Roman"/>
              </a:rPr>
              <a:t>Codifica um conjunto de medidas de saliência que não é amarrado a nenhuma dimensão de característica particula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5f5f5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00"/>
                </a:solidFill>
                <a:latin typeface="Times New Roman"/>
              </a:rPr>
              <a:t>Acredita-se que, nos primatas, tal mapa esteja localizado no córtex vis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45468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Atenção Visual em Máquina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Mapa de Saliênc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962520" y="2057400"/>
            <a:ext cx="3047760" cy="2895120"/>
            <a:chOff x="3962520" y="2057400"/>
            <a:chExt cx="3047760" cy="2895120"/>
          </a:xfrm>
        </p:grpSpPr>
        <p:sp>
          <p:nvSpPr>
            <p:cNvPr id="144" name=""/>
            <p:cNvSpPr/>
            <p:nvPr/>
          </p:nvSpPr>
          <p:spPr>
            <a:xfrm>
              <a:off x="4267080" y="2514240"/>
              <a:ext cx="762120" cy="423720"/>
            </a:xfrm>
            <a:prstGeom prst="rightArrow">
              <a:avLst>
                <a:gd name="adj1" fmla="val 50000"/>
                <a:gd name="adj2" fmla="val 44966"/>
              </a:avLst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62520" y="2133360"/>
              <a:ext cx="761760" cy="423360"/>
            </a:xfrm>
            <a:prstGeom prst="rightArrow">
              <a:avLst>
                <a:gd name="adj1" fmla="val 50000"/>
                <a:gd name="adj2" fmla="val 44983"/>
              </a:avLst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248520" y="2666880"/>
              <a:ext cx="761760" cy="423360"/>
            </a:xfrm>
            <a:prstGeom prst="rightArrow">
              <a:avLst>
                <a:gd name="adj1" fmla="val 50000"/>
                <a:gd name="adj2" fmla="val 44983"/>
              </a:avLst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019920" y="2133360"/>
              <a:ext cx="761760" cy="423360"/>
            </a:xfrm>
            <a:prstGeom prst="rightArrow">
              <a:avLst>
                <a:gd name="adj1" fmla="val 50000"/>
                <a:gd name="adj2" fmla="val 44983"/>
              </a:avLst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81480" y="3657240"/>
              <a:ext cx="762120" cy="423720"/>
            </a:xfrm>
            <a:prstGeom prst="rightArrow">
              <a:avLst>
                <a:gd name="adj1" fmla="val 50000"/>
                <a:gd name="adj2" fmla="val 44966"/>
              </a:avLst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038480" y="3124080"/>
              <a:ext cx="762120" cy="423360"/>
            </a:xfrm>
            <a:prstGeom prst="rightArrow">
              <a:avLst>
                <a:gd name="adj1" fmla="val 50000"/>
                <a:gd name="adj2" fmla="val 45004"/>
              </a:avLst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248520" y="3657240"/>
              <a:ext cx="761760" cy="423720"/>
            </a:xfrm>
            <a:prstGeom prst="rightArrow">
              <a:avLst>
                <a:gd name="adj1" fmla="val 50000"/>
                <a:gd name="adj2" fmla="val 44945"/>
              </a:avLst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191120" y="3733560"/>
              <a:ext cx="761760" cy="423360"/>
            </a:xfrm>
            <a:prstGeom prst="rightArrow">
              <a:avLst>
                <a:gd name="adj1" fmla="val 50000"/>
                <a:gd name="adj2" fmla="val 44983"/>
              </a:avLst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334120" y="2514240"/>
              <a:ext cx="761760" cy="423720"/>
            </a:xfrm>
            <a:prstGeom prst="rightArrow">
              <a:avLst>
                <a:gd name="adj1" fmla="val 50000"/>
                <a:gd name="adj2" fmla="val 44945"/>
              </a:avLst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800600" y="2057400"/>
              <a:ext cx="762120" cy="423720"/>
            </a:xfrm>
            <a:prstGeom prst="rightArrow">
              <a:avLst>
                <a:gd name="adj1" fmla="val 50000"/>
                <a:gd name="adj2" fmla="val 44966"/>
              </a:avLst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248520" y="4528800"/>
              <a:ext cx="761760" cy="423720"/>
            </a:xfrm>
            <a:prstGeom prst="rightArrow">
              <a:avLst>
                <a:gd name="adj1" fmla="val 50000"/>
                <a:gd name="adj2" fmla="val 44945"/>
              </a:avLst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181480" y="4495680"/>
              <a:ext cx="762120" cy="423360"/>
            </a:xfrm>
            <a:prstGeom prst="rightArrow">
              <a:avLst>
                <a:gd name="adj1" fmla="val 50000"/>
                <a:gd name="adj2" fmla="val 45004"/>
              </a:avLst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191120" y="4452840"/>
              <a:ext cx="761760" cy="423360"/>
            </a:xfrm>
            <a:prstGeom prst="rightArrow">
              <a:avLst>
                <a:gd name="adj1" fmla="val 50000"/>
                <a:gd name="adj2" fmla="val 44983"/>
              </a:avLst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181480" y="2938320"/>
              <a:ext cx="1219320" cy="677520"/>
            </a:xfrm>
            <a:prstGeom prst="rightArrow">
              <a:avLst>
                <a:gd name="adj1" fmla="val 50000"/>
                <a:gd name="adj2" fmla="val 44992"/>
              </a:avLst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334120" y="4038480"/>
              <a:ext cx="761760" cy="456840"/>
            </a:xfrm>
            <a:prstGeom prst="leftArrow">
              <a:avLst>
                <a:gd name="adj1" fmla="val 50000"/>
                <a:gd name="adj2" fmla="val 41686"/>
              </a:avLst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380880" y="2133720"/>
            <a:ext cx="2598120" cy="2873160"/>
            <a:chOff x="380880" y="2133720"/>
            <a:chExt cx="2598120" cy="2873160"/>
          </a:xfrm>
        </p:grpSpPr>
        <p:grpSp>
          <p:nvGrpSpPr>
            <p:cNvPr id="160" name=""/>
            <p:cNvGrpSpPr/>
            <p:nvPr/>
          </p:nvGrpSpPr>
          <p:grpSpPr>
            <a:xfrm>
              <a:off x="380880" y="2133720"/>
              <a:ext cx="2598120" cy="2742480"/>
              <a:chOff x="380880" y="2133720"/>
              <a:chExt cx="2598120" cy="2742480"/>
            </a:xfrm>
          </p:grpSpPr>
          <p:sp>
            <p:nvSpPr>
              <p:cNvPr id="161" name=""/>
              <p:cNvSpPr/>
              <p:nvPr/>
            </p:nvSpPr>
            <p:spPr>
              <a:xfrm>
                <a:off x="958320" y="2422800"/>
                <a:ext cx="577440" cy="5767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247040" y="2711160"/>
                <a:ext cx="577440" cy="57744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536120" y="2999520"/>
                <a:ext cx="576720" cy="57744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824480" y="3288960"/>
                <a:ext cx="577440" cy="5767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103040" y="3144240"/>
                <a:ext cx="576720" cy="57744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103040" y="3577320"/>
                <a:ext cx="576720" cy="57744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536120" y="3432600"/>
                <a:ext cx="576720" cy="5774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69960" y="3288960"/>
                <a:ext cx="576720" cy="5767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80880" y="2999520"/>
                <a:ext cx="577440" cy="57744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680120" y="2711160"/>
                <a:ext cx="577440" cy="57744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69960" y="2566440"/>
                <a:ext cx="576720" cy="57744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13960" y="2711160"/>
                <a:ext cx="577440" cy="57744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113200" y="3577320"/>
                <a:ext cx="577440" cy="57744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824480" y="3865680"/>
                <a:ext cx="577440" cy="57744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13960" y="3865680"/>
                <a:ext cx="577440" cy="57744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257560" y="3288960"/>
                <a:ext cx="577440" cy="5767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113200" y="2855880"/>
                <a:ext cx="577440" cy="5767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536120" y="3865680"/>
                <a:ext cx="576720" cy="57744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391400" y="2133720"/>
                <a:ext cx="577440" cy="57744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680120" y="2422800"/>
                <a:ext cx="577440" cy="5767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402280" y="3865680"/>
                <a:ext cx="576720" cy="57744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25240" y="3721680"/>
                <a:ext cx="577440" cy="5767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680120" y="4298760"/>
                <a:ext cx="577440" cy="57744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113200" y="4154760"/>
                <a:ext cx="577440" cy="5767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113200" y="2566440"/>
                <a:ext cx="577440" cy="57744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247040" y="4010400"/>
                <a:ext cx="577440" cy="57744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609480" y="4114800"/>
              <a:ext cx="990720" cy="89208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80880" y="5105520"/>
            <a:ext cx="7696440" cy="1600200"/>
          </a:xfrm>
          <a:prstGeom prst="flowChartAlternateProcess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pt-BR" sz="2800" spc="-1" strike="noStrike">
                <a:solidFill>
                  <a:srgbClr val="990000"/>
                </a:solidFill>
                <a:latin typeface="Times New Roman"/>
              </a:rPr>
              <a:t>O mapa de saliência codifica o fato de uma região ser saliente, não importando qual característica torna essa região saliente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8240" y="45468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Atenção Visual em Máquina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7696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Mapa de Saliênc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3352680" cy="22179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4114800" y="4343400"/>
            <a:ext cx="3352680" cy="21938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4251240" y="2098800"/>
            <a:ext cx="321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0" y="27432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00"/>
                </a:solidFill>
                <a:latin typeface="Times New Roman"/>
              </a:rPr>
              <a:t>Imagem de Ent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62120" y="51814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00"/>
                </a:solidFill>
                <a:latin typeface="Times New Roman"/>
              </a:rPr>
              <a:t>Mapa de Saliê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8240" y="45468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Atenção Visual em Máquina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7696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990000"/>
                </a:solidFill>
                <a:latin typeface="Times New Roman"/>
              </a:rPr>
              <a:t>O modelo de Itti e Ko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251240" y="2098800"/>
            <a:ext cx="321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914400" y="1995480"/>
            <a:ext cx="6629400" cy="45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240" y="45468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Atenção Visual em Máquina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990000"/>
                </a:solidFill>
                <a:latin typeface="Times New Roman"/>
              </a:rPr>
              <a:t>O modelo de Itti e Ko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5f5f5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00"/>
                </a:solidFill>
                <a:latin typeface="Times New Roman"/>
              </a:rPr>
              <a:t>Segmentação da imagem </a:t>
            </a:r>
            <a:r>
              <a:rPr b="0" lang="pt-BR" sz="2800" spc="-1" strike="noStrike">
                <a:solidFill>
                  <a:srgbClr val="003300"/>
                </a:solidFill>
                <a:latin typeface="Wingdings"/>
                <a:ea typeface="Wingdings"/>
              </a:rPr>
              <a:t></a:t>
            </a:r>
            <a:r>
              <a:rPr b="0" lang="pt-BR" sz="2800" spc="-1" strike="noStrike">
                <a:solidFill>
                  <a:srgbClr val="003300"/>
                </a:solidFill>
                <a:latin typeface="Times New Roman"/>
              </a:rPr>
              <a:t> características de baixo níve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5f5f5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00"/>
                </a:solidFill>
                <a:latin typeface="Times New Roman"/>
              </a:rPr>
              <a:t>Representação piramidal (pirâmide gaussian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251240" y="2098800"/>
            <a:ext cx="321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685800" y="1886040"/>
            <a:ext cx="7238880" cy="2214360"/>
          </a:xfrm>
          <a:prstGeom prst="rect">
            <a:avLst/>
          </a:prstGeom>
          <a:ln w="0">
            <a:noFill/>
          </a:ln>
        </p:spPr>
      </p:pic>
      <p:grpSp>
        <p:nvGrpSpPr>
          <p:cNvPr id="204" name=""/>
          <p:cNvGrpSpPr/>
          <p:nvPr/>
        </p:nvGrpSpPr>
        <p:grpSpPr>
          <a:xfrm>
            <a:off x="4229280" y="4152960"/>
            <a:ext cx="75960" cy="419040"/>
            <a:chOff x="4229280" y="4152960"/>
            <a:chExt cx="75960" cy="419040"/>
          </a:xfrm>
        </p:grpSpPr>
        <p:sp>
          <p:nvSpPr>
            <p:cNvPr id="205" name=""/>
            <p:cNvSpPr/>
            <p:nvPr/>
          </p:nvSpPr>
          <p:spPr>
            <a:xfrm>
              <a:off x="4229280" y="432432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229280" y="415296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229280" y="449604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1295280" y="1066680"/>
            <a:ext cx="2590920" cy="1371600"/>
          </a:xfrm>
          <a:prstGeom prst="wedgeRoundRectCallout">
            <a:avLst>
              <a:gd name="adj1" fmla="val -43518"/>
              <a:gd name="adj2" fmla="val 103356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 = r – (g+b)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 = g – (r+b)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 = b – (r+g)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038480" y="2057400"/>
            <a:ext cx="2133720" cy="457200"/>
          </a:xfrm>
          <a:prstGeom prst="wedgeRoundRectCallout">
            <a:avLst>
              <a:gd name="adj1" fmla="val -49925"/>
              <a:gd name="adj2" fmla="val 189236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 = (r+g+b)/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5880" y="1219320"/>
            <a:ext cx="1981440" cy="761760"/>
          </a:xfrm>
          <a:prstGeom prst="wedgeRoundRectCallout">
            <a:avLst>
              <a:gd name="adj1" fmla="val -1361"/>
              <a:gd name="adj2" fmla="val 20458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Filtros Direcion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240" y="45468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Atenção Visual em Máquina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990000"/>
                </a:solidFill>
                <a:latin typeface="Times New Roman"/>
              </a:rPr>
              <a:t>O modelo de Itti e Ko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251240" y="2098800"/>
            <a:ext cx="321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GI0" descr=""/>
          <p:cNvPicPr/>
          <p:nvPr/>
        </p:nvPicPr>
        <p:blipFill>
          <a:blip r:embed="rId1"/>
          <a:stretch/>
        </p:blipFill>
        <p:spPr>
          <a:xfrm>
            <a:off x="419040" y="2209680"/>
            <a:ext cx="4076640" cy="2857680"/>
          </a:xfrm>
          <a:prstGeom prst="rect">
            <a:avLst/>
          </a:prstGeom>
          <a:ln w="0">
            <a:noFill/>
          </a:ln>
        </p:spPr>
      </p:pic>
      <p:pic>
        <p:nvPicPr>
          <p:cNvPr id="215" name="GI1" descr=""/>
          <p:cNvPicPr/>
          <p:nvPr/>
        </p:nvPicPr>
        <p:blipFill>
          <a:blip r:embed="rId2"/>
          <a:stretch/>
        </p:blipFill>
        <p:spPr>
          <a:xfrm>
            <a:off x="412920" y="5137200"/>
            <a:ext cx="2044440" cy="1434960"/>
          </a:xfrm>
          <a:prstGeom prst="rect">
            <a:avLst/>
          </a:prstGeom>
          <a:ln w="0">
            <a:noFill/>
          </a:ln>
        </p:spPr>
      </p:pic>
      <p:pic>
        <p:nvPicPr>
          <p:cNvPr id="216" name="GI2" descr=""/>
          <p:cNvPicPr/>
          <p:nvPr/>
        </p:nvPicPr>
        <p:blipFill>
          <a:blip r:embed="rId3"/>
          <a:stretch/>
        </p:blipFill>
        <p:spPr>
          <a:xfrm>
            <a:off x="2590920" y="5848200"/>
            <a:ext cx="1028520" cy="723960"/>
          </a:xfrm>
          <a:prstGeom prst="rect">
            <a:avLst/>
          </a:prstGeom>
          <a:ln w="0">
            <a:noFill/>
          </a:ln>
        </p:spPr>
      </p:pic>
      <p:pic>
        <p:nvPicPr>
          <p:cNvPr id="217" name="GI3" descr=""/>
          <p:cNvPicPr/>
          <p:nvPr/>
        </p:nvPicPr>
        <p:blipFill>
          <a:blip r:embed="rId4"/>
          <a:stretch/>
        </p:blipFill>
        <p:spPr>
          <a:xfrm>
            <a:off x="3733920" y="6203880"/>
            <a:ext cx="520560" cy="368280"/>
          </a:xfrm>
          <a:prstGeom prst="rect">
            <a:avLst/>
          </a:prstGeom>
          <a:ln w="0">
            <a:noFill/>
          </a:ln>
        </p:spPr>
      </p:pic>
      <p:pic>
        <p:nvPicPr>
          <p:cNvPr id="218" name="GI4" descr=""/>
          <p:cNvPicPr/>
          <p:nvPr/>
        </p:nvPicPr>
        <p:blipFill>
          <a:blip r:embed="rId5"/>
          <a:stretch/>
        </p:blipFill>
        <p:spPr>
          <a:xfrm>
            <a:off x="4343400" y="6381720"/>
            <a:ext cx="266760" cy="1904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4724280" y="228600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Exemplo de uma pirâmide gaussiana com 5 níve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45468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00"/>
                </a:solidFill>
                <a:latin typeface="Times New Roman"/>
              </a:rPr>
              <a:t>Introdução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00"/>
                </a:solidFill>
                <a:latin typeface="Times New Roman"/>
              </a:rPr>
              <a:t>Atenção Visual – é a capacidade que os sistemas visuais biológicos têm de detectar rapidamente partes interessantes no estímulo visual de entrad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00"/>
                </a:solidFill>
                <a:latin typeface="Times New Roman"/>
              </a:rPr>
              <a:t>Função – fixar o olhar em objetos de interesse no ambiente visua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00"/>
                </a:solidFill>
                <a:latin typeface="Times New Roman"/>
              </a:rPr>
              <a:t>Ajuda a decidir de onde extrair informaçã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8240" y="45468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Atenção Visual em Máquina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990000"/>
                </a:solidFill>
                <a:latin typeface="Times New Roman"/>
              </a:rPr>
              <a:t>O modelo de Itti e Ko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5f5f5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00"/>
                </a:solidFill>
                <a:latin typeface="Times New Roman"/>
              </a:rPr>
              <a:t>Mamíferos – neurônios sensíveis a centros escuros com região clara ao redor e vice-ver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51240" y="2098800"/>
            <a:ext cx="321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04760" y="2489040"/>
            <a:ext cx="7496280" cy="1454400"/>
          </a:xfrm>
          <a:prstGeom prst="rect">
            <a:avLst/>
          </a:prstGeom>
          <a:ln w="0">
            <a:noFill/>
          </a:ln>
        </p:spPr>
      </p:pic>
      <p:grpSp>
        <p:nvGrpSpPr>
          <p:cNvPr id="224" name=""/>
          <p:cNvGrpSpPr/>
          <p:nvPr/>
        </p:nvGrpSpPr>
        <p:grpSpPr>
          <a:xfrm>
            <a:off x="3772080" y="4076640"/>
            <a:ext cx="75960" cy="419040"/>
            <a:chOff x="3772080" y="4076640"/>
            <a:chExt cx="75960" cy="419040"/>
          </a:xfrm>
        </p:grpSpPr>
        <p:sp>
          <p:nvSpPr>
            <p:cNvPr id="225" name=""/>
            <p:cNvSpPr/>
            <p:nvPr/>
          </p:nvSpPr>
          <p:spPr>
            <a:xfrm>
              <a:off x="3772080" y="424800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772080" y="407664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772080" y="44197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3772080" y="1962000"/>
            <a:ext cx="75960" cy="419040"/>
            <a:chOff x="3772080" y="1962000"/>
            <a:chExt cx="75960" cy="419040"/>
          </a:xfrm>
        </p:grpSpPr>
        <p:sp>
          <p:nvSpPr>
            <p:cNvPr id="229" name=""/>
            <p:cNvSpPr/>
            <p:nvPr/>
          </p:nvSpPr>
          <p:spPr>
            <a:xfrm>
              <a:off x="3772080" y="213336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772080" y="196200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72080" y="230508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5695920" y="457200"/>
            <a:ext cx="2743200" cy="1523880"/>
          </a:xfrm>
          <a:prstGeom prst="wedgeRoundRectCallout">
            <a:avLst>
              <a:gd name="adj1" fmla="val -57870"/>
              <a:gd name="adj2" fmla="val 8552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Interpolação para escala fina e subtração ponto a po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04920" y="304920"/>
            <a:ext cx="4952880" cy="1600200"/>
          </a:xfrm>
          <a:prstGeom prst="wedgeRoundRectCallout">
            <a:avLst>
              <a:gd name="adj1" fmla="val -962"/>
              <a:gd name="adj2" fmla="val 87101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Centro: pixel na escala </a:t>
            </a: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99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{2,3,4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Região ao redor: pixel correspondente na escala s = c + </a:t>
            </a:r>
            <a:r>
              <a:rPr b="1" lang="en-US" sz="2400" spc="-1" strike="noStrike">
                <a:solidFill>
                  <a:srgbClr val="990000"/>
                </a:solidFill>
                <a:latin typeface="Symbol"/>
                <a:ea typeface="Symbol"/>
              </a:rPr>
              <a:t>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990000"/>
                </a:solidFill>
                <a:latin typeface="Symbol"/>
                <a:ea typeface="Symbol"/>
              </a:rPr>
              <a:t>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99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 {3,4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95360" y="4572000"/>
            <a:ext cx="2628720" cy="457200"/>
            <a:chOff x="495360" y="4572000"/>
            <a:chExt cx="2628720" cy="457200"/>
          </a:xfrm>
        </p:grpSpPr>
        <p:pic>
          <p:nvPicPr>
            <p:cNvPr id="235" name="" descr=""/>
            <p:cNvPicPr/>
            <p:nvPr/>
          </p:nvPicPr>
          <p:blipFill>
            <a:blip r:embed="rId2"/>
            <a:stretch/>
          </p:blipFill>
          <p:spPr>
            <a:xfrm>
              <a:off x="571320" y="4638600"/>
              <a:ext cx="25527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495360" y="4572000"/>
              <a:ext cx="75960" cy="45720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3124080" y="461016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Contraste de intens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28240" y="45468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Atenção Visual em Máquina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990000"/>
                </a:solidFill>
                <a:latin typeface="Times New Roman"/>
              </a:rPr>
              <a:t>O modelo de Itti e Ko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5f5f5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00"/>
                </a:solidFill>
                <a:latin typeface="Times New Roman"/>
              </a:rPr>
              <a:t>Representado no córtex pelo chamado Sistema de “Cores Oponentes”</a:t>
            </a: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5f5f5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00"/>
                </a:solidFill>
                <a:latin typeface="Times New Roman"/>
              </a:rPr>
              <a:t>Existe par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00"/>
                </a:solidFill>
                <a:latin typeface="Times New Roman"/>
              </a:rPr>
              <a:t>Vermelho/verde e verde/vermel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00"/>
                </a:solidFill>
                <a:latin typeface="Times New Roman"/>
              </a:rPr>
              <a:t>Azul/amarelo e amarelo/az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251240" y="2098800"/>
            <a:ext cx="321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504720" y="2209680"/>
            <a:ext cx="5133960" cy="990720"/>
            <a:chOff x="504720" y="2209680"/>
            <a:chExt cx="5133960" cy="990720"/>
          </a:xfrm>
        </p:grpSpPr>
        <p:pic>
          <p:nvPicPr>
            <p:cNvPr id="242" name="" descr=""/>
            <p:cNvPicPr/>
            <p:nvPr/>
          </p:nvPicPr>
          <p:blipFill>
            <a:blip r:embed="rId1"/>
            <a:stretch/>
          </p:blipFill>
          <p:spPr>
            <a:xfrm>
              <a:off x="580680" y="2247840"/>
              <a:ext cx="505800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504720" y="2209680"/>
              <a:ext cx="75960" cy="99072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28240" y="45468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Atenção Visual em Máquina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990000"/>
                </a:solidFill>
                <a:latin typeface="Times New Roman"/>
              </a:rPr>
              <a:t>O modelo de Itti e Ko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5f5f5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00"/>
                </a:solidFill>
                <a:latin typeface="Times New Roman"/>
              </a:rPr>
              <a:t>Existência de neurônios sensíveis aos limites (bordas) em várias orientações no córtex vis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251240" y="2098800"/>
            <a:ext cx="321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533520" y="2209680"/>
            <a:ext cx="3504600" cy="990720"/>
            <a:chOff x="533520" y="2209680"/>
            <a:chExt cx="3504600" cy="990720"/>
          </a:xfrm>
        </p:grpSpPr>
        <p:pic>
          <p:nvPicPr>
            <p:cNvPr id="248" name="" descr=""/>
            <p:cNvPicPr/>
            <p:nvPr/>
          </p:nvPicPr>
          <p:blipFill>
            <a:blip r:embed="rId1"/>
            <a:stretch/>
          </p:blipFill>
          <p:spPr>
            <a:xfrm>
              <a:off x="599760" y="2286000"/>
              <a:ext cx="3438360" cy="3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533520" y="2209680"/>
              <a:ext cx="75960" cy="99072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0" name="" descr=""/>
            <p:cNvPicPr/>
            <p:nvPr/>
          </p:nvPicPr>
          <p:blipFill>
            <a:blip r:embed="rId2"/>
            <a:stretch/>
          </p:blipFill>
          <p:spPr>
            <a:xfrm>
              <a:off x="685440" y="2809800"/>
              <a:ext cx="2781000" cy="314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1" name=""/>
          <p:cNvSpPr/>
          <p:nvPr/>
        </p:nvSpPr>
        <p:spPr>
          <a:xfrm>
            <a:off x="4114800" y="25146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Orientação 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920" y="5029200"/>
            <a:ext cx="3581280" cy="12952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Operações inspiradas nos campos receptivos visu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267080" y="5029200"/>
            <a:ext cx="3581640" cy="12952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Produzem extração de características em várias escalas e orientaçõ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28240" y="45468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Atenção Visual em Máquina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990000"/>
                </a:solidFill>
                <a:latin typeface="Times New Roman"/>
              </a:rPr>
              <a:t>O modelo de Itti e Ko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5f5f5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00"/>
                </a:solidFill>
                <a:latin typeface="Times New Roman"/>
              </a:rPr>
              <a:t>Exemplo da interpol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160" y="2819520"/>
            <a:ext cx="8420040" cy="3240720"/>
            <a:chOff x="38160" y="2819520"/>
            <a:chExt cx="8420040" cy="3240720"/>
          </a:xfrm>
        </p:grpSpPr>
        <p:pic>
          <p:nvPicPr>
            <p:cNvPr id="257" name="GI0" descr=""/>
            <p:cNvPicPr/>
            <p:nvPr/>
          </p:nvPicPr>
          <p:blipFill>
            <a:blip r:embed="rId1"/>
            <a:stretch/>
          </p:blipFill>
          <p:spPr>
            <a:xfrm>
              <a:off x="152280" y="2819520"/>
              <a:ext cx="4077000" cy="285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GI2" descr=""/>
            <p:cNvPicPr/>
            <p:nvPr/>
          </p:nvPicPr>
          <p:blipFill>
            <a:blip r:embed="rId2"/>
            <a:stretch/>
          </p:blipFill>
          <p:spPr>
            <a:xfrm>
              <a:off x="4419720" y="2835360"/>
              <a:ext cx="4038480" cy="28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38160" y="56005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</a:rPr>
                <a:t>Nível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324320" y="56005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</a:rPr>
                <a:t>Nível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28240" y="45468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Atenção Visual em Máquina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990000"/>
                </a:solidFill>
                <a:latin typeface="Times New Roman"/>
              </a:rPr>
              <a:t>O modelo de Itti e Ko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5f5f5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00"/>
                </a:solidFill>
                <a:latin typeface="Times New Roman"/>
              </a:rPr>
              <a:t>Os mapas de características são combinados, resultando em três “mapas de conspicuidade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251240" y="2098800"/>
            <a:ext cx="321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228600" y="2523960"/>
            <a:ext cx="7315200" cy="1133640"/>
          </a:xfrm>
          <a:prstGeom prst="rect">
            <a:avLst/>
          </a:prstGeom>
          <a:ln w="0">
            <a:noFill/>
          </a:ln>
        </p:spPr>
      </p:pic>
      <p:grpSp>
        <p:nvGrpSpPr>
          <p:cNvPr id="265" name=""/>
          <p:cNvGrpSpPr/>
          <p:nvPr/>
        </p:nvGrpSpPr>
        <p:grpSpPr>
          <a:xfrm>
            <a:off x="3733920" y="1962000"/>
            <a:ext cx="75960" cy="419040"/>
            <a:chOff x="3733920" y="1962000"/>
            <a:chExt cx="75960" cy="419040"/>
          </a:xfrm>
        </p:grpSpPr>
        <p:sp>
          <p:nvSpPr>
            <p:cNvPr id="266" name=""/>
            <p:cNvSpPr/>
            <p:nvPr/>
          </p:nvSpPr>
          <p:spPr>
            <a:xfrm>
              <a:off x="3733920" y="213336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733920" y="196200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733920" y="230508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3733920" y="3772080"/>
            <a:ext cx="75960" cy="419040"/>
            <a:chOff x="3733920" y="3772080"/>
            <a:chExt cx="75960" cy="419040"/>
          </a:xfrm>
        </p:grpSpPr>
        <p:sp>
          <p:nvSpPr>
            <p:cNvPr id="270" name=""/>
            <p:cNvSpPr/>
            <p:nvPr/>
          </p:nvSpPr>
          <p:spPr>
            <a:xfrm>
              <a:off x="3733920" y="394344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733920" y="377208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733920" y="411516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4267080" y="609480"/>
            <a:ext cx="3353040" cy="1219320"/>
          </a:xfrm>
          <a:prstGeom prst="wedgeRoundRectCallout">
            <a:avLst>
              <a:gd name="adj1" fmla="val -47537"/>
              <a:gd name="adj2" fmla="val 110157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Redução de cada mapa para escala 4 e adição ponto a po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1009800" y="5276880"/>
            <a:ext cx="2381040" cy="459720"/>
            <a:chOff x="1009800" y="5276880"/>
            <a:chExt cx="2381040" cy="459720"/>
          </a:xfrm>
        </p:grpSpPr>
        <p:pic>
          <p:nvPicPr>
            <p:cNvPr id="275" name="" descr=""/>
            <p:cNvPicPr/>
            <p:nvPr/>
          </p:nvPicPr>
          <p:blipFill>
            <a:blip r:embed="rId2"/>
            <a:stretch/>
          </p:blipFill>
          <p:spPr>
            <a:xfrm>
              <a:off x="1009800" y="5295960"/>
              <a:ext cx="361800" cy="3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1333440" y="527688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Wingdings"/>
                  <a:ea typeface="Wingdings"/>
                </a:rPr>
                <a:t></a:t>
              </a: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</a:rPr>
                <a:t>intensida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990720" y="5772240"/>
            <a:ext cx="2286000" cy="459720"/>
            <a:chOff x="990720" y="5772240"/>
            <a:chExt cx="2286000" cy="459720"/>
          </a:xfrm>
        </p:grpSpPr>
        <p:pic>
          <p:nvPicPr>
            <p:cNvPr id="278" name="" descr=""/>
            <p:cNvPicPr/>
            <p:nvPr/>
          </p:nvPicPr>
          <p:blipFill>
            <a:blip r:embed="rId3"/>
            <a:stretch/>
          </p:blipFill>
          <p:spPr>
            <a:xfrm>
              <a:off x="990720" y="5772240"/>
              <a:ext cx="419040" cy="40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1333440" y="5772240"/>
              <a:ext cx="19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Wingdings"/>
                  <a:ea typeface="Wingdings"/>
                </a:rPr>
                <a:t></a:t>
              </a: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</a:rPr>
                <a:t>orientaçã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80" name="" descr=""/>
          <p:cNvPicPr/>
          <p:nvPr/>
        </p:nvPicPr>
        <p:blipFill>
          <a:blip r:embed="rId4"/>
          <a:stretch/>
        </p:blipFill>
        <p:spPr>
          <a:xfrm>
            <a:off x="1047600" y="6267600"/>
            <a:ext cx="314640" cy="40932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333440" y="62866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c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3200400" y="2747880"/>
            <a:ext cx="4722840" cy="3957840"/>
            <a:chOff x="3200400" y="2747880"/>
            <a:chExt cx="4722840" cy="3957840"/>
          </a:xfrm>
        </p:grpSpPr>
        <p:sp>
          <p:nvSpPr>
            <p:cNvPr id="283" name=""/>
            <p:cNvSpPr/>
            <p:nvPr/>
          </p:nvSpPr>
          <p:spPr>
            <a:xfrm>
              <a:off x="3505320" y="2747880"/>
              <a:ext cx="4417920" cy="2865960"/>
            </a:xfrm>
            <a:prstGeom prst="wedgeRoundRectCallout">
              <a:avLst>
                <a:gd name="adj1" fmla="val -45657"/>
                <a:gd name="adj2" fmla="val 63171"/>
                <a:gd name="adj3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990000"/>
                  </a:solidFill>
                  <a:latin typeface="Times New Roman"/>
                </a:rPr>
                <a:t>Motivação:</a:t>
              </a: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</a:rPr>
                <a:t> </a:t>
              </a:r>
              <a:r>
                <a:rPr b="1" lang="pt-BR" sz="2400" spc="-1" strike="noStrike">
                  <a:solidFill>
                    <a:srgbClr val="990000"/>
                  </a:solidFill>
                  <a:latin typeface="Times New Roman"/>
                </a:rPr>
                <a:t>Características similares competem firmemente pela saliência e característica diferentes contribuem independentemente para a geração do mapa de saliênci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200400" y="5334120"/>
              <a:ext cx="380880" cy="137160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35640 h 1371600"/>
                <a:gd name="textAreaBottom" fmla="*/ 133596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28240" y="45468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Atenção Visual em Máquina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990000"/>
                </a:solidFill>
                <a:latin typeface="Times New Roman"/>
              </a:rPr>
              <a:t>O modelo de Itti e Ko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51240" y="2098800"/>
            <a:ext cx="321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3733920" y="1962000"/>
            <a:ext cx="75960" cy="419040"/>
            <a:chOff x="3733920" y="1962000"/>
            <a:chExt cx="75960" cy="419040"/>
          </a:xfrm>
        </p:grpSpPr>
        <p:sp>
          <p:nvSpPr>
            <p:cNvPr id="289" name=""/>
            <p:cNvSpPr/>
            <p:nvPr/>
          </p:nvSpPr>
          <p:spPr>
            <a:xfrm>
              <a:off x="3733920" y="213336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733920" y="196200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33920" y="230508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1257480" y="2438280"/>
            <a:ext cx="5733720" cy="245772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609480" y="4952880"/>
            <a:ext cx="4876920" cy="838440"/>
          </a:xfrm>
          <a:prstGeom prst="rect">
            <a:avLst/>
          </a:prstGeom>
          <a:ln w="0">
            <a:noFill/>
          </a:ln>
        </p:spPr>
      </p:pic>
      <p:grpSp>
        <p:nvGrpSpPr>
          <p:cNvPr id="294" name=""/>
          <p:cNvGrpSpPr/>
          <p:nvPr/>
        </p:nvGrpSpPr>
        <p:grpSpPr>
          <a:xfrm>
            <a:off x="646920" y="3123720"/>
            <a:ext cx="531720" cy="1752840"/>
            <a:chOff x="646920" y="3123720"/>
            <a:chExt cx="531720" cy="1752840"/>
          </a:xfrm>
        </p:grpSpPr>
        <p:sp>
          <p:nvSpPr>
            <p:cNvPr id="295" name=""/>
            <p:cNvSpPr/>
            <p:nvPr/>
          </p:nvSpPr>
          <p:spPr>
            <a:xfrm flipV="1">
              <a:off x="685800" y="3123720"/>
              <a:ext cx="0" cy="175284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646920" y="3155760"/>
              <a:ext cx="531720" cy="612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4648320" y="1066680"/>
            <a:ext cx="3504960" cy="1219320"/>
          </a:xfrm>
          <a:prstGeom prst="wedgeRoundRectCallout">
            <a:avLst>
              <a:gd name="adj1" fmla="val -41574"/>
              <a:gd name="adj2" fmla="val 159634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Rede Winner-take-all decide qual a próxima região atend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28240" y="45468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Atenção Visual em Máquina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990000"/>
                </a:solidFill>
                <a:latin typeface="Times New Roman"/>
              </a:rPr>
              <a:t>O modelo de Itti e Ko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251240" y="2098800"/>
            <a:ext cx="321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762120" y="1981080"/>
            <a:ext cx="6629040" cy="4648320"/>
            <a:chOff x="762120" y="1981080"/>
            <a:chExt cx="6629040" cy="4648320"/>
          </a:xfrm>
        </p:grpSpPr>
        <p:pic>
          <p:nvPicPr>
            <p:cNvPr id="302" name="" descr=""/>
            <p:cNvPicPr/>
            <p:nvPr/>
          </p:nvPicPr>
          <p:blipFill>
            <a:blip r:embed="rId1"/>
            <a:stretch/>
          </p:blipFill>
          <p:spPr>
            <a:xfrm>
              <a:off x="762120" y="1981080"/>
              <a:ext cx="6629040" cy="452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968760" y="6172200"/>
              <a:ext cx="165744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28240" y="45468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Atenção Visual em Máquina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990000"/>
                </a:solidFill>
                <a:latin typeface="Times New Roman"/>
              </a:rPr>
              <a:t>O modelo de Itti e Ko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251240" y="2098800"/>
            <a:ext cx="321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1676520" y="2052720"/>
            <a:ext cx="5257800" cy="45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28240" y="45468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Atenção Visual em Máquina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990000"/>
                </a:solidFill>
                <a:latin typeface="Times New Roman"/>
              </a:rPr>
              <a:t>O modelo de Itti e Ko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5f5f5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00"/>
                </a:solidFill>
                <a:latin typeface="Times New Roman"/>
              </a:rPr>
              <a:t>Algumas considerações sobre a arquitetur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00"/>
                </a:solidFill>
                <a:latin typeface="Times New Roman"/>
              </a:rPr>
              <a:t>Bem apropriada para detectar regiões que se destacam da sua vizinhanç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00"/>
                </a:solidFill>
                <a:latin typeface="Times New Roman"/>
              </a:rPr>
              <a:t>Princípio computacional geral da Retina, do Núcleo Geniculado Lateral e do Córtex Visu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00"/>
                </a:solidFill>
                <a:latin typeface="Times New Roman"/>
              </a:rPr>
              <a:t>Dificuldade em combinar os diferentes map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00"/>
                </a:solidFill>
                <a:latin typeface="Times New Roman"/>
              </a:rPr>
              <a:t>Representam </a:t>
            </a:r>
            <a:r>
              <a:rPr b="1" i="1" lang="pt-BR" sz="2000" spc="-1" strike="noStrike">
                <a:solidFill>
                  <a:srgbClr val="003300"/>
                </a:solidFill>
                <a:latin typeface="Times New Roman"/>
              </a:rPr>
              <a:t>a priori</a:t>
            </a:r>
            <a:r>
              <a:rPr b="1" lang="pt-BR" sz="2000" spc="-1" strike="noStrike">
                <a:solidFill>
                  <a:srgbClr val="003300"/>
                </a:solidFill>
                <a:latin typeface="Times New Roman"/>
              </a:rPr>
              <a:t> modalidades não comparáveis, com diferentes mecanismos de extraçã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00"/>
                </a:solidFill>
                <a:latin typeface="Times New Roman"/>
              </a:rPr>
              <a:t>Objetos muito salientes podem aparecer em poucos mapas, enquanto objetos pouco salientes podem aparecer em muitos map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251240" y="2098800"/>
            <a:ext cx="321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28240" y="45468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Considerações Finai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3300"/>
                </a:solidFill>
                <a:latin typeface="Times New Roman"/>
              </a:rPr>
              <a:t>A necessidade de baixar a dimensionalidade dos problemas de visão, vem do fato de que as imagens veiculam  grande quantidade de informações redundantes ou inúteis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3300"/>
                </a:solidFill>
                <a:latin typeface="Times New Roman"/>
              </a:rPr>
              <a:t>Várias tarefas de visão que não utilizam uma estratégia atencional podem se tornar intratáveis</a:t>
            </a:r>
            <a:r>
              <a:rPr b="1" lang="en-US" sz="2600" spc="-1" strike="noStrike">
                <a:solidFill>
                  <a:srgbClr val="003300"/>
                </a:solidFill>
                <a:latin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3300"/>
                </a:solidFill>
                <a:latin typeface="Times New Roman"/>
              </a:rPr>
              <a:t>Alguns autores argumentam que qualquer problema de visão pode ser colocado como um problema de reconhecimento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251240" y="2098800"/>
            <a:ext cx="321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45468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00"/>
                </a:solidFill>
                <a:latin typeface="Times New Roman"/>
              </a:rPr>
              <a:t>Introdução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00"/>
                </a:solidFill>
                <a:latin typeface="Times New Roman"/>
              </a:rPr>
              <a:t>Pode ser vista como um método para reduzir a quantidade de informação visual de entrada para um tamanho manejáve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00"/>
                </a:solidFill>
                <a:latin typeface="Times New Roman"/>
              </a:rPr>
              <a:t>Tarefas com processamento complexo podem ser tratadas pelos recursos computacionais limitados do cérebro</a:t>
            </a: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28240" y="45468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Considerações Finai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3300"/>
                </a:solidFill>
                <a:latin typeface="Times New Roman"/>
              </a:rPr>
              <a:t>O reconhecimento a partir da comparação direta das imagens gera dois problemas principai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5f5f5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3300"/>
                </a:solidFill>
                <a:latin typeface="Times New Roman"/>
              </a:rPr>
              <a:t>A busca se dá em um espaço de altíssima dimensão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5f5f5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3300"/>
                </a:solidFill>
                <a:latin typeface="Times New Roman"/>
              </a:rPr>
              <a:t>Processo extremamente difícil e custos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3300"/>
                </a:solidFill>
                <a:latin typeface="Times New Roman"/>
              </a:rPr>
              <a:t>O ideal é conciliar representações com baixa dimensionalidade</a:t>
            </a:r>
            <a:r>
              <a:rPr b="1" lang="en-US" sz="2600" spc="-1" strike="noStrike">
                <a:solidFill>
                  <a:srgbClr val="003300"/>
                </a:solidFill>
                <a:latin typeface="Times New Roman"/>
              </a:rPr>
              <a:t> e</a:t>
            </a:r>
            <a:r>
              <a:rPr b="1" lang="pt-BR" sz="2600" spc="-1" strike="noStrike">
                <a:solidFill>
                  <a:srgbClr val="003300"/>
                </a:solidFill>
                <a:latin typeface="Times New Roman"/>
              </a:rPr>
              <a:t> que contenham as informações mais importantes para a realização da taref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251240" y="2098800"/>
            <a:ext cx="321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45468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00"/>
                </a:solidFill>
                <a:latin typeface="Times New Roman"/>
              </a:rPr>
              <a:t>Introdução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7696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Estudos Psicofísicos tentam revelar as conseqüências comportamentais da atençã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Estudos neurofisiológicos tentam revelar as áreas do cérebro e os mecanismos neurais envolvidos na atençã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Inspirados nesses estudos alguns modelos foram propos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240" y="45468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00"/>
                </a:solidFill>
                <a:latin typeface="Times New Roman"/>
              </a:rPr>
              <a:t>Fisiologia da Visão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990000"/>
                </a:solidFill>
                <a:latin typeface="Times New Roman"/>
              </a:rPr>
              <a:t>A informação visu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5f5f5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00"/>
                </a:solidFill>
                <a:latin typeface="Times New Roman"/>
              </a:rPr>
              <a:t>Captada por células fotossensíveis da retin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5f5f5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00"/>
                </a:solidFill>
                <a:latin typeface="Times New Roman"/>
              </a:rPr>
              <a:t>Transmitida através do nervo óptic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5f5f5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00"/>
                </a:solidFill>
                <a:latin typeface="Times New Roman"/>
              </a:rPr>
              <a:t>Alcança duas estruturas do cérebr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00"/>
                </a:solidFill>
                <a:latin typeface="Times New Roman"/>
              </a:rPr>
              <a:t>Núcleo Geniculado Lateral (Caminho Retino-geniculado) – único que alcança o Córtex Visu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00"/>
                </a:solidFill>
                <a:latin typeface="Times New Roman"/>
              </a:rPr>
              <a:t>Colículo Superior (Colicular) – Movimentos Ocula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45468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00"/>
                </a:solidFill>
                <a:latin typeface="Times New Roman"/>
              </a:rPr>
              <a:t>Fisiologia da Visão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990000"/>
                </a:solidFill>
                <a:latin typeface="Times New Roman"/>
              </a:rPr>
              <a:t>Caminho Retino-geniculad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aminhoRetinoGeniculado" descr=""/>
          <p:cNvPicPr/>
          <p:nvPr/>
        </p:nvPicPr>
        <p:blipFill>
          <a:blip r:embed="rId1"/>
          <a:stretch/>
        </p:blipFill>
        <p:spPr>
          <a:xfrm>
            <a:off x="1219320" y="2200320"/>
            <a:ext cx="571500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240" y="45468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00"/>
                </a:solidFill>
                <a:latin typeface="Times New Roman"/>
              </a:rPr>
              <a:t>Fisiologia da Visão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990000"/>
                </a:solidFill>
                <a:latin typeface="Times New Roman"/>
              </a:rPr>
              <a:t>A Retin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5f5f5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00"/>
                </a:solidFill>
                <a:latin typeface="Times New Roman"/>
              </a:rPr>
              <a:t>Porção do olho sensível a luz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5f5f5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00"/>
                </a:solidFill>
                <a:latin typeface="Times New Roman"/>
              </a:rPr>
              <a:t>Células fotossensíve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00"/>
                </a:solidFill>
                <a:latin typeface="Times New Roman"/>
              </a:rPr>
              <a:t>Cones (visão em cores – diurn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00"/>
                </a:solidFill>
                <a:latin typeface="Times New Roman"/>
              </a:rPr>
              <a:t>Bastonetes (visão no escuro – noturn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5f5f5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00"/>
                </a:solidFill>
                <a:latin typeface="Times New Roman"/>
              </a:rPr>
              <a:t>Distribuição não uniforme de fotorreceptor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5f5f5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00"/>
                </a:solidFill>
                <a:latin typeface="Times New Roman"/>
              </a:rPr>
              <a:t>Fóvea (região central da retina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00"/>
                </a:solidFill>
                <a:latin typeface="Times New Roman"/>
              </a:rPr>
              <a:t>Responsável pela visão acurada e detalhad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00"/>
                </a:solidFill>
                <a:latin typeface="Times New Roman"/>
              </a:rPr>
              <a:t>Fóvea central: composta inteiramente por c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45468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00"/>
                </a:solidFill>
                <a:latin typeface="Times New Roman"/>
              </a:rPr>
              <a:t>Fisiologia da Visão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990000"/>
                </a:solidFill>
                <a:latin typeface="Times New Roman"/>
              </a:rPr>
              <a:t>A Retin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Olho3" descr=""/>
          <p:cNvPicPr/>
          <p:nvPr/>
        </p:nvPicPr>
        <p:blipFill>
          <a:blip r:embed="rId1"/>
          <a:stretch/>
        </p:blipFill>
        <p:spPr>
          <a:xfrm>
            <a:off x="533520" y="2235240"/>
            <a:ext cx="5010120" cy="4089240"/>
          </a:xfrm>
          <a:prstGeom prst="rect">
            <a:avLst/>
          </a:prstGeom>
          <a:ln w="0">
            <a:noFill/>
          </a:ln>
        </p:spPr>
      </p:pic>
      <p:pic>
        <p:nvPicPr>
          <p:cNvPr id="105" name="Fovea" descr=""/>
          <p:cNvPicPr/>
          <p:nvPr/>
        </p:nvPicPr>
        <p:blipFill>
          <a:blip r:embed="rId2"/>
          <a:stretch/>
        </p:blipFill>
        <p:spPr>
          <a:xfrm>
            <a:off x="4876920" y="1371600"/>
            <a:ext cx="2789280" cy="12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4T15:52:36Z</dcterms:created>
  <dc:creator>Fabricio</dc:creator>
  <dc:description/>
  <dc:language>en-US</dc:language>
  <cp:lastModifiedBy>Fabricio</cp:lastModifiedBy>
  <dcterms:modified xsi:type="dcterms:W3CDTF">2002-04-08T09:44:40Z</dcterms:modified>
  <cp:revision>142</cp:revision>
  <dc:subject/>
  <dc:title>Atenção Visual</dc:title>
</cp:coreProperties>
</file>